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86C-47A1-4B7F-AEDC-6B82645B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B67-601D-44CE-B613-624D719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6BC-C879-49F0-8DC7-9C81CB34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E29-B400-424F-851F-BE4D3F7D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1BE-5332-4D02-9ECB-8BB30460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FE9-49D9-4444-AC81-3FB85B0B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1D6-3AC6-46BB-B572-39327E72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E1A-C3A0-43A3-806A-2A8E054D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82B-17C7-4C2A-AF59-057A4E7D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0B4-784F-4EB8-B044-EA9CA885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E72-877E-4880-B487-05EC9443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250-AC9E-48F4-9752-4555890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2476-738D-46AC-9E9B-7D82EC46A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6.xls" TargetMode="External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ind &amp; Double Bl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si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ematic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825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Model for “possible values”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Distribution of        in “repeated samplings (thought experiment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Distribution of        in “repeated samplings (again thought experi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876920" y="4648320"/>
                <a:ext cx="35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86280" y="3236760"/>
                <a:ext cx="42696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ematic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istribu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tudy these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shape”: oft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ives measure of “bi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ives measure of “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and 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5230800" cy="6248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1360" y="2322360"/>
            <a:ext cx="2149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ed from 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. 3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and 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from previou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“Estimate % of males at UN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6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everal approaches to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bad, on sen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ing proportions (on [0,1] sc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 Grid (for histograms on [0,1]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Pa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mean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SD (spread)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(appear n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4 way to collect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from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at door and 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 “less spread and to lef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names in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3 “more to righ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d to be best, can we se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omparison:  Q4 vs. each oth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interleaved histogra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 &amp; Q4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 has smaller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“biased”, since Class      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ss sp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“drawn from smaller poo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4120" y="3581280"/>
                <a:ext cx="3657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72000" y="4724280"/>
                <a:ext cx="388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6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715000" y="4267080"/>
                <a:ext cx="3808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2 &amp; Q4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have Q2 big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bias in doo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Q2 is “more spread”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“spread in doors chosen” + “sampling spr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173400" y="2819520"/>
                <a:ext cx="371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21120" y="4572000"/>
                <a:ext cx="3940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3 &amp; Q4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Q3 is big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“more people think of male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Q3 is “more spread”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“more variation in human choi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191040" y="2811600"/>
                <a:ext cx="36763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29040" y="4562640"/>
                <a:ext cx="3922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up:  Tuesday, Feb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:    HW Assignments  1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. Feb. 14,   8:30 – 12:00,  2:00 – 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stead of Review S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l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8.5” x 11” sheet of paper with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an interleaved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Chart Wi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Bar (and interleaved sub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olors are in “ser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d earlier on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ool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nal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to’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 % Males at U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 “natural variatio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model this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“binomial” part of this exa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e will study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and 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62 (Hi bias – hi var, lo bias – lo var, lo bias – hi var, hi bias – lo v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: 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quantify (get numerical)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o answering question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 what is “natural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random sampl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which effects are “significa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Represent “how likely” something is by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(will use for a while, since simplicity gives easy insigh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a die (6 sided cube, faces 1,2,…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f 6 faces is a “4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ay “chances of a 4”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ut of 6”          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at number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nd such for harder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029200" y="4267080"/>
                <a:ext cx="1066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make this prec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ist Approa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replications (repeat of die roll), expect about          of total will be   4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  (attach buzzwords to ide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“outcomes” from 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experi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#s on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roll die, observ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733920" y="3124080"/>
                <a:ext cx="560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V="1">
            <a:off x="1905120" y="472392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343400" y="52578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y “how likely” by assigning “probabilit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a number between 0 and 1, to each outcome, reflecting “how 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means    “can’t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   means   “happens half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means   “must 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10:  Match one of the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, 0.01, 0.3, 0.6, 0.99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th each statement about an ev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ossible, can’t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ertain, will happen on every 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ery unlikely, but will occur once in a long w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vent will occur more often than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all probabilities (i.e. over all outcomes) is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for die rolling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495680" y="3124080"/>
                <a:ext cx="12193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471920" y="3505320"/>
                <a:ext cx="11905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419720" y="5029200"/>
                <a:ext cx="12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483080" y="3886200"/>
                <a:ext cx="1168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471920" y="4267080"/>
                <a:ext cx="11905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483080" y="4648320"/>
                <a:ext cx="11685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572000" y="5791320"/>
                <a:ext cx="9320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3733920" y="5562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. 3.4: Basics of “Infer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 Build foundatio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 quantit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f uncertainty and vari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Concep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mean         , SD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, but can get information fro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572000" y="4419720"/>
                <a:ext cx="3873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172200" y="4419720"/>
                <a:ext cx="3808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 flipV="1">
            <a:off x="1447920" y="4647960"/>
            <a:ext cx="3047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447920" y="4647960"/>
            <a:ext cx="4724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 for assign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quent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at happe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 repit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for   n  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{one outcome}  =  1/n    (e.g. die ro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serve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mmarize when people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“prob of dying” at a given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ules for assigning proba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h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ng “your assess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Odds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:    requires som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page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sually random), described by corresponding “statist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ean       ,  SD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become important to keep these ap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95680" y="3962520"/>
                <a:ext cx="381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324480" y="3962520"/>
                <a:ext cx="3225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all vo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teres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%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igger than 50% or no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voters asked by polls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=  %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reful to keep these straigh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905120" y="3505320"/>
                <a:ext cx="4251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29000" y="5181480"/>
                <a:ext cx="297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1:    Political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“estimate”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ility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construct models of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when sample is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random sampling also reduces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105520" y="2895480"/>
                <a:ext cx="3524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76520" y="2819520"/>
                <a:ext cx="25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ming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en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all possible measurem’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thought experiment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teres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opulation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population 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28800" y="4648320"/>
                <a:ext cx="425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828800" y="5257800"/>
                <a:ext cx="380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:    Measureme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“measurem’ts actually mad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mean of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SD of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676520" y="4419720"/>
                <a:ext cx="357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676520" y="3733920"/>
                <a:ext cx="398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2:    Measuremen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will model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ness” is just a model for measuremen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600200" y="3048120"/>
                <a:ext cx="2872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00200" y="3581280"/>
                <a:ext cx="29196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581280" y="3657600"/>
                <a:ext cx="27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657600" y="3124080"/>
                <a:ext cx="303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2-09T03:21:45Z</dcterms:modified>
  <cp:revision>356</cp:revision>
  <dc:subject/>
  <dc:title>Slide 1</dc:title>
</cp:coreProperties>
</file>