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531-D100-4DA4-8A21-7539F2C3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504-723F-4286-B4D6-7FFBD9E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F79-A655-40D9-964C-4A235838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B39-E4F1-4F56-8A38-B8094ADA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382-46E9-42FD-9AEC-7A81E57E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790-4755-499A-94D8-7FC09BEA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59D-12C6-4C86-975B-1E65670C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CB8-CA0A-400A-A76D-F4B7D30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B03-EB7F-4346-9065-49EBFE2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8C1-3C58-47AA-A6F5-00195DC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7D3-6229-42BD-8C6A-D1E84BB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1A0-B410-47BF-BA17-A79384B7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4A4C-C8B0-4170-845A-FFFE5F95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CokePepsiResults2005.xls" TargetMode="External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Statistic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vs.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ummaries (mean, S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    “parameter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:      “statist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ssessment of “uncertain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statistic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itative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553080" y="3200400"/>
                <a:ext cx="7686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791320" y="3733920"/>
                <a:ext cx="76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, P, is a “function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on a set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unction in math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-in            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:        P{event}  =  “how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410080" y="2895480"/>
                <a:ext cx="2438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49528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3040" y="47242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731484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086600" y="4800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 =  {1, 2, 3, 4, 5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 #” is the event  {2, 4, 6} (a “se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“even”}  =  P{2, 4, 6}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{2} + P{4} + P{6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/6 + 1/6 + 1/6  =  3/6  = 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s, since expect “even hal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248520" y="3581280"/>
                <a:ext cx="838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9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tretch ideas with more interes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olitical Polls,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i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equally likely to be in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oss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ally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simple Probability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0880" y="4952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possibl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 population A, B, C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a v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4, so easy to work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11480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91120" y="4572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6708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43400" y="4572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pulation A, B, C, 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. R. S.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pac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(A,B), (A,C), (A,D), (B,C), (B,D), (C,D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, i.e. possible samples of siz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2120" y="4267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62120" y="4267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ssign P, using “equally likely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,B} = P{A,C} = … = P{C,D}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/(#samples)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resting even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n sample”  =  {(A,C),(B,C),(D,C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 of samples with C in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 R. S. 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 in sample}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happens “half the tim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4.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038480" y="1295280"/>
                <a:ext cx="3883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th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209680" y="2666880"/>
                <a:ext cx="54864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chance of being in a poll of 1000, from S.R.S. out of 200,000,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ude estimate of # of U. S. vo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each sample is equally likely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  thi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,733 digits, too big for easy handling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157480" y="4191120"/>
                <a:ext cx="5211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638680" y="5029200"/>
                <a:ext cx="2286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7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oll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arefu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ense, since you are “equally likely to be in samp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0880" y="1981080"/>
                <a:ext cx="79250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o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pl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9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62320" y="3657600"/>
                <a:ext cx="6400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!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!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!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rade range given now, since “not enough info…”            Recall earlier analy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vs. Midterm I                  Midterm II vs. Midterm I          Final Exam vs. Midterm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= 0.61                      Correlation = 0.57                     Correlation = 0.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2819520"/>
          <a:ext cx="2666880" cy="25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266688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124080" y="2819520"/>
          <a:ext cx="2667240" cy="257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19520"/>
                    <a:ext cx="266724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019920" y="2819520"/>
          <a:ext cx="2666880" cy="2560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2819520"/>
                    <a:ext cx="26668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ly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have prob.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hard to wor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prob’s we care about, such as “accuracy estimators”, need bet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look more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calculate “complicated prob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composing events in terms of simpl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alculating probs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using simple rules of pr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962520" y="3352680"/>
            <a:ext cx="3047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{not A}  =  1 – P{A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 gener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48120" y="3809880"/>
                <a:ext cx="4647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otal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962520" y="5410080"/>
                <a:ext cx="4724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prob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  <m:r>
                              <m:t xml:space="preserve">'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bs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Not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Terminology (sec. 4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complement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 theoretic te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prefer “not”, since more intui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4080" y="2133720"/>
                <a:ext cx="533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V="1">
            <a:off x="2286000" y="2361960"/>
            <a:ext cx="1219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Not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Rework, using the “not”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7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9a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II:   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r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{A or B}  =  P{A} + P{B} – P{A or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qually likely sampl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P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14400" y="3809880"/>
                <a:ext cx="6937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B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352680" y="5105520"/>
            <a:ext cx="251460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181480"/>
            <a:ext cx="2057400" cy="1067040"/>
          </a:xfrm>
          <a:prstGeom prst="ellipse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Rule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Roll a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s work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not A} = P{5, 6} = 2/6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le I:  P{not A} = 1 – P{A} = 1 – 4/6 =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“4 or less” = {1, 2, 3, 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“Odd” = {1, 3, 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how rule works by calculating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:    P{A or B} = P{1, 2, 3, 4, 5} = 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le II:  P{A or B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{A} + P{B} – P{A or B}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/6 + 3/6 – 2/6 = 5/6        (check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o ea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rules for these simpl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igg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 of Your Stat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-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Very Pleas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-8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OK, but be careful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-7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Strongly recomm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cour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let’s talk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o ea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ally need rules for these simpl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ar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igg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 Simple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: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86 (0.30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 A college has 60% Women and 40% smokers, and 50% women who don’t sm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hance that a randomly selected student is either a women or a non-smok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s “&gt;60%”, but twice? Must be &lt; 100%, i.e. must be some overlap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 Women – Smokers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W or S} = P{W} + P{S} = P{W &amp; 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ce of letters make easy to work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 + (1 – 0.4) – 0.5 = 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swer is 70% women or smo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rules are powerful when us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4.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28640" y="19810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812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Or” Rule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Events A &amp; B are “mutually exclusive”, i.e. “disjoint”, when  P{A &amp; B}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no chance of seeing both at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Pi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A or B} = P{A} + P{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suggest “new rule”, I say “special c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505320"/>
            <a:ext cx="1295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429000"/>
            <a:ext cx="60948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Exclusive Or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8   (0.65, 0.38, 0.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47920" y="1523880"/>
          <a:ext cx="6377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77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 flipV="1">
            <a:off x="4419720" y="53337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79132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495680" y="243828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943600" y="2361960"/>
            <a:ext cx="0" cy="327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- Cok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Spread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CokePepsiResults2005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Pepsi?    5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Sweeter?    5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Know?     8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?    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Heads?    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random variation”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presenting “how likely”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ie Rol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comes up 4} = 1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 is “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is 1/6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-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erminology (to carry this furth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of 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Rolling:  “an even #”, is the event {2, 4,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tting on even don’t care about #, only even or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events are our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utcome is an event:  the set containing just that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event is the more general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on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comes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“event with everything that can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event} = sum of probs of outcomes i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09680" y="4724280"/>
                <a:ext cx="23623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lu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assigns number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e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2-16T17:18:17Z</dcterms:modified>
  <cp:revision>407</cp:revision>
  <dc:subject/>
  <dc:title>Slide 1</dc:title>
</cp:coreProperties>
</file>