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B48-78EC-4371-BEAA-C4E08887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9B1-29DC-4599-9A59-C7D7F56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0B8-2598-4949-82CB-59ACEFE1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888-DB2C-4960-9724-EBE20C9B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2BC-74BB-4A64-9B62-C2A7CD5D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039-005F-4683-B6E1-68245349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A12-4987-4A93-9514-C6AF9851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856-F636-43C1-9E00-B8252A8F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9C8-1BFA-4052-B58D-61EB3AF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AB7-CA3A-4F80-8AEE-674EFC51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173-0A99-4AF5-B758-3DFF90D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D2C-B87C-45FF-A14F-088E2B2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735-5511-4B04-BCCF-3BEC21A8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{A &amp; B} = P{A|B}P{B} = P{B|A}P{A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rn a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ditional Proba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P{3 tosses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idea holds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rom now on will just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Independent, multiply 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 for Exclusive Or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just “add 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81280" y="2163600"/>
                <a:ext cx="3505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e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these can be tricky to keep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ork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tually ex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   work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special cas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ly exclusive      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A  and B  mutually exclu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= 0        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876920" y="266688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peci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C13    Suppose events A, B, C  all have probability 0.4,  A &amp; B are independent,  and A &amp; C are mutually exclu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or B}        (0.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or C}        (0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and B}        (0.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 P{A and C}      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, Section 4.3   (we are currently j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take probability to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probability structure of political poll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denoted as 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quantity that “takes on values at rand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at requ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hematical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look only at “counting numbers”, 1,2,3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i.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arder math, since need all fractio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for Candidate A 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ly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itical poll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all that m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something to “get a hold o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 spirit to high school algeb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nknowns a name, so can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6934320" y="2133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too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 study by simp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on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one more major concept at this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 not depend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,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B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es not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ce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| B}  = 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  X  =  # that comes up, in die ro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very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an study by simp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on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Measurement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 =  meas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odel probabilitie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on discrete vs. continu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40    ((b) discrete,   (c) continuous,   (d) could be either, but discrete is more com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idea about “visualization” las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really lik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less enthusiasti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mode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thinkers” lov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’t connect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on’t plan to continu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 is use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3, otherwise (4) break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are about number that com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ion allows focussing on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keen to play?   (will calculat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X = “net winn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X  takes on values   9,   -4    and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½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ould you want to play?, study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 example,    for X = “net winning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$9  if 5 or 6,   Pay $4, if 1, 2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Structure of X is summa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   P{X = -4} = ½   P{X = 0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form:   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2133720" y="5105520"/>
          <a:ext cx="6476760" cy="1249200"/>
        </p:xfrm>
        <a:graphic>
          <a:graphicData uri="http://schemas.openxmlformats.org/drawingml/2006/table">
            <a:tbl>
              <a:tblPr/>
              <a:tblGrid>
                <a:gridCol w="1795320"/>
                <a:gridCol w="1560240"/>
                <a:gridCol w="1560600"/>
                <a:gridCol w="15606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 summarize “distribution” (i.e. full prob. Structure) 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     are between 0 a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get a prob. funct’n as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45" name=""/>
          <p:cNvGraphicFramePr/>
          <p:nvPr/>
        </p:nvGraphicFramePr>
        <p:xfrm>
          <a:off x="2819520" y="297180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90720" y="5549760"/>
                <a:ext cx="1447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6520" y="5029200"/>
                <a:ext cx="304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distribution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this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rob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ing tab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joint O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3048120" y="2438280"/>
          <a:ext cx="5105160" cy="1249200"/>
        </p:xfrm>
        <a:graphic>
          <a:graphicData uri="http://schemas.openxmlformats.org/drawingml/2006/table">
            <a:tbl>
              <a:tblPr/>
              <a:tblGrid>
                <a:gridCol w="1447560"/>
                <a:gridCol w="684000"/>
                <a:gridCol w="990720"/>
                <a:gridCol w="990720"/>
                <a:gridCol w="9921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9}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2} = P{X = 0} + P{X = -4} = 1/6 +½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= 5} = 0        (not in tabl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4114800" y="251460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l &amp; Ur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 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T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toss coin, and draw b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, so R &amp; I are independ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rue above, but works here, since propor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574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467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7631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523880" y="2666880"/>
                <a:ext cx="1447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76520" y="3505320"/>
                <a:ext cx="5486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14600" y="3962520"/>
                <a:ext cx="27385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H="1" flipV="1">
            <a:off x="3809520" y="2133360"/>
            <a:ext cx="350532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315200" y="2209680"/>
            <a:ext cx="91440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 Die Rolling game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5257800" y="2133720"/>
          <a:ext cx="3581280" cy="103500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" y="3352680"/>
                <a:ext cx="68580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352680" y="4495680"/>
                <a:ext cx="46483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b.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47  &amp;  (d)   Find P{X = 3 | X &gt;= 2}    (0.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0    (0.144, …, 0.3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sider continuous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r continuous random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robabilities as are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“probability density curve”,  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babilities for continuous random variables, as areas under “probability density curve”,   f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Area(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lculus n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14400" y="4038480"/>
                <a:ext cx="2666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895480" y="4952880"/>
                <a:ext cx="2057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flipV="1">
            <a:off x="6324480" y="4114800"/>
            <a:ext cx="914400" cy="53352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60840" y="4046400"/>
            <a:ext cx="2735280" cy="339840"/>
          </a:xfrm>
          <a:custGeom>
            <a:avLst/>
            <a:gdLst/>
            <a:ahLst/>
            <a:rect l="l" t="t" r="r" b="b"/>
            <a:pathLst>
              <a:path w="1723" h="214">
                <a:moveTo>
                  <a:pt x="0" y="214"/>
                </a:moveTo>
                <a:cubicBezTo>
                  <a:pt x="56" y="205"/>
                  <a:pt x="234" y="189"/>
                  <a:pt x="341" y="160"/>
                </a:cubicBezTo>
                <a:cubicBezTo>
                  <a:pt x="448" y="131"/>
                  <a:pt x="552" y="57"/>
                  <a:pt x="640" y="43"/>
                </a:cubicBezTo>
                <a:cubicBezTo>
                  <a:pt x="728" y="29"/>
                  <a:pt x="779" y="64"/>
                  <a:pt x="869" y="75"/>
                </a:cubicBezTo>
                <a:cubicBezTo>
                  <a:pt x="959" y="86"/>
                  <a:pt x="1089" y="104"/>
                  <a:pt x="1179" y="107"/>
                </a:cubicBezTo>
                <a:cubicBezTo>
                  <a:pt x="1269" y="110"/>
                  <a:pt x="1317" y="109"/>
                  <a:pt x="1408" y="91"/>
                </a:cubicBezTo>
                <a:cubicBezTo>
                  <a:pt x="1499" y="73"/>
                  <a:pt x="1657" y="19"/>
                  <a:pt x="1723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648320"/>
            <a:ext cx="26668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505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48520" y="48006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2388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876920" y="5866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Uniform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cho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[0,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stant d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f(x)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“equally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oose C, want: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P{X in [0,1]}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ant C = 1.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724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715000" y="44953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54864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334120" y="4724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3341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324480" y="4495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 Random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2    (0.73, 0, 0.73, 0.2,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4    (1, ½, 1/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Draw at random from a norm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is the normal curve (studied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ome earlier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895480" y="1676520"/>
                <a:ext cx="120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86000" y="4267080"/>
                <a:ext cx="1600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when  A  in independent of 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B  is independent of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0920" y="3505320"/>
                <a:ext cx="3429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038480" y="2209680"/>
                <a:ext cx="442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4191120"/>
                <a:ext cx="426708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∧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r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ro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by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= 0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bove, 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CEL, use NORMDIST &amp;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bove:      X ~ N(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X &lt; 1.3}   =NORMDIST(1.3,1,0.5,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0.73     (as in pic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Random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086600" y="2438280"/>
                <a:ext cx="773280" cy="26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229360" y="3132000"/>
            <a:ext cx="18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, when  A  in independent of 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ollows that:   B  is independent of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independence”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 A  and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ormal treatments use symmetric version as defini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avoid hassles with 0 proba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Case of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A  and  B  indepen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&amp; B}  =  P{A | B} P{B}  =  P{B | A} P{A}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A}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When independent, just multiply probabil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find P{3 tosses}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  tosses ar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w this was reasonable last time, using “equally likely sample space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3 tosses}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ave 3:   group with parenthes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015320" y="254016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124080" y="4952880"/>
                <a:ext cx="2819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“And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oss a coin until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 appears, find P{3 tosses}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indep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“just multip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038480" y="2819520"/>
                <a:ext cx="3581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77120" y="2514600"/>
                <a:ext cx="77292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95680" y="2209680"/>
                <a:ext cx="2908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3505320"/>
                <a:ext cx="5181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4343400"/>
                <a:ext cx="433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81280" y="5105520"/>
                <a:ext cx="3694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2-24T02:11:48Z</dcterms:modified>
  <cp:revision>525</cp:revision>
  <dc:subject/>
  <dc:title>Slide 1</dc:title>
</cp:coreProperties>
</file>