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4EE-A1C2-473E-96CC-80884DCE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643-94C4-45DA-8E75-2AC99EA7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B88-6C51-442A-A15B-9FD66EEC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4DA-BB7C-4895-A2A7-25035287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6B8-C4CC-409F-849D-579405A2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D26-DB3F-42A4-A03B-083F9D1D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7A9-6EB2-4799-AEFC-A659DB52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AB0-0CBD-4B61-9C90-741A9CAF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46B-44BA-47D8-AA8F-90F42138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7F9-BA8D-4E9A-BBE8-874BF24B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1F7-0DDC-4A93-8EE5-9B2160F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FFD-CE6D-4E97-9377-B2CB726E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DC31-E8ED-47FC-AD85-A68BE0854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ncaa.org/releases/miscellaneous/2004/2004090202ms.htm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ase of “And”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to Mutually 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vs.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 of Probabilities for Discrete R.V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as Probabilities for Continuous R.V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ication of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“fairness” of games (e.g. gamb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jor Caution:  Expected Value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what is expected o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play, but instead is average ove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an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p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ay what happens in one or a few plays, only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ng run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you owe mafia $5000, clean out safe at work.  If you give to mafia, you go to jail, so decide to try to raise additional $5000 by gamb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n make even bets, where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n really do this, e.g. bets 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roulette at a casi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 and can make even bets, w/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ing Practical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you make one large b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any small b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something in betw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 and can make even bets, w/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Value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Winnings)  =  P{lose} x $0 + P{win} x $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52 x $0 + 0.48 x $2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$0.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ose $0.04 for every dollar 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 and can make even bets, w/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ose $0.04 for every dollar 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gambling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prof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the casinos, been to Las Vega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expected value works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f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s, you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rely 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hould make fewer, not more b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 and can make even bets, w/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vie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{get $10,00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$5000 bet                  0.48 ~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$2500 bets             ~ (0.4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 1/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$1250 bets            ~ (0.4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 1/1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”                      “no cha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Suppose have $5000, and need $10,000 and can make even bets, w/ P{win} =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 (?)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to ma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big 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uch fu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st chance at w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no Folkl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ally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s walk in, place one huge be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about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,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f will play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f only play on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don’t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ng 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 flipV="1">
            <a:off x="762120" y="281916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38080" y="2895120"/>
            <a:ext cx="5181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decis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Lo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sells ti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about half of $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rest to ~ one (randomly chosen)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Expected Value is clearly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people play?      Totally irrati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s buy faint hop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umongous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wor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oy of thinking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decis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Lo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one in North Caroli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asked to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(and deep) philosophical bala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ly volun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 tax burden bor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ly by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fa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lose revenue to other stat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s and Var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f random variables)         Text, Sec. 4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Abo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 summa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tended from populations to probabil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:      frequentist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peated dra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4120" y="4305240"/>
                <a:ext cx="25146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decis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no Gam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lose in long run (expected value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 people do it.  Are they nu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how many times they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ly enj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ing ahead 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uld be worth price paid for the thr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societal challe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ome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ly consu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ri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fe decis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cted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pays about 2 x Expecte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 Company keeps the re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very profi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e.g. car insurance is required by la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ble, since if lose, can lo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y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 purchase is totally against Expect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, si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 only play 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t 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 C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y many ti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pected Value works for th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y ar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ing 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esting Suggestion /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Katie Ba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l supported with Data / Analys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MPLE MA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e of the 2005 NCAA Men’s Basketball Tournament Final: Monday, April 4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,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e of the Stat 31 Midterm #2: Tuesday, April 5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,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WHY SHOULD STEVE RESCHEDULE THE EXA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TISTICAL EVIDEN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124080" y="1295280"/>
          <a:ext cx="516276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295280"/>
                    <a:ext cx="51627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62120" y="1600200"/>
          <a:ext cx="1433520" cy="3276360"/>
        </p:xfrm>
        <a:graphic>
          <a:graphicData uri="http://schemas.openxmlformats.org/drawingml/2006/table">
            <a:tbl>
              <a:tblPr/>
              <a:tblGrid>
                <a:gridCol w="609480"/>
                <a:gridCol w="8240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B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9144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bability of a #1 Seed Reaching the Final 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83808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nal Four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4-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410080"/>
            <a:ext cx="784872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P{FF} = 43/104 =0.4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Arial"/>
              </a:rPr>
              <a:t>http://cbs.sportsline.com/collegebasketball/mayhem/history/finalfour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many of these #1 seeds actually win the Tour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1676520"/>
          <a:ext cx="4419720" cy="344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419720" cy="34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410080" y="2514600"/>
            <a:ext cx="3124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{Champ} = 12/25 = 0.4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ever, this assumes that North Carolina has an equal probability of winning the Tourney as the other predicted #1 Seeds (Illinois, Wake Forest, and Boston College)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BC Sports, msnb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 we all know th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llinois is un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llinois beat Wake Forest 91-78 and is ranked #1 in the Big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ke Forest beat North Carolina 95-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rth Carolina is ranked #1 in the ACC and is 4-2 versus ranked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ston College has lost only one game and is #1 in the Big Least, I mean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do we determine which team is b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PI is derived from three component factors: Div. I winning percentage (25)%,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chedule strength (50)%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nd opponent's schedule strength (25)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#1 Seeds’ RPI’s compare to the rest of the Top 2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Prob.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able summary of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on by random variable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ies:    P{X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:   big difference between X  and x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3276720" y="2286000"/>
          <a:ext cx="5105160" cy="1249200"/>
        </p:xfrm>
        <a:graphic>
          <a:graphicData uri="http://schemas.openxmlformats.org/drawingml/2006/table">
            <a:tbl>
              <a:tblPr/>
              <a:tblGrid>
                <a:gridCol w="1447560"/>
                <a:gridCol w="684000"/>
                <a:gridCol w="990720"/>
                <a:gridCol w="990720"/>
                <a:gridCol w="9921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V="1">
            <a:off x="228600" y="2666880"/>
            <a:ext cx="3124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74320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257800" y="335232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143000" y="228600"/>
          <a:ext cx="739152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"/>
                    <a:ext cx="739152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143000" y="4572000"/>
            <a:ext cx="73152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s expected, teams with higher rankings have higher ranking RPI’s.  This indicates that the best teams are going to be at the bottom left corner of the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UT… RPI’s are not an entirely accurate way of measuring team’s ability (as seen with mediocre R^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PI does not take into account factors such as margin of victory, location of gam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different approach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study found that approximately 62.8% of all college students consume alcohol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ttp://www.ftc.gov/reports/alcohol/appendix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Considering that this percentage does not take into account specific drinking statistics at UNC nor the fact that a national championship is at stake, this is a conservative fig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Number of students in Steve’s Stat. 31 class: 92 (from class exam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92*0.628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≈ 58 people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his number estimates the number of people enrolled in Stat 31, section 1 that consume alcohol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study by the NCAA showed that 87% of university students strongly believe that supporting collegiate sports is an integral part of colleg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caa.org/releases/miscellaneous/2004/2004090202m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aking into account that watching sports and drinking alcohol are major aspects of college students’ lives, what is the probability that a college student will support college sports AND consume alcohol at the same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P{A} = 0.628, P{S} = 0.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P {A and S} = P{A}*P{S} = 0.628*0.87 = 0.546 (54.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HUS, over half the class (approx. 50 people) will probably drink alcohol the night of the final game of the NCAA T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rolina has a considerable chance of reaching the Final Four and winning the NCAA tourney as a #1 seed as seen in past tourna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y have fierce competition, as seen with in the graph of RPI vs. Rank, for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ver half of the class will probably consume alcohol the night of April 4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resulting in difficulty in studying for a midterm scheduled the nex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e that these figures are very conservative percentages, given that students will most likely drink more when their team is in the final game and especially if it is a close, exciting match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PLEASE MOVE THE TEST, STEV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ff00"/>
                </a:solidFill>
                <a:uFillTx/>
                <a:latin typeface="Arial"/>
              </a:rPr>
              <a:t>GO HEELS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0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w about that exam change reque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t we all need to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cho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ursday, April 7    or    Tuesday, April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email objections to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roperties of the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mean “preserves linear transform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838080" y="3505320"/>
                <a:ext cx="75438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b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9880" y="2133720"/>
                <a:ext cx="33530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05120" y="4343400"/>
                <a:ext cx="65530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roperties of the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harder, so won’t d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can add means to get mean of s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mean “preserves su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33920" y="2514600"/>
                <a:ext cx="3440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“double the stakes”, then w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of 2X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$1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ice the 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4648320" y="160020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86200" y="3505320"/>
                <a:ext cx="3581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“play twice”, then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abov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sn’t playing twice different from doubling s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but not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74" name=""/>
          <p:cNvGraphicFramePr/>
          <p:nvPr/>
        </p:nvGraphicFramePr>
        <p:xfrm>
          <a:off x="4648320" y="144792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438280" y="3276720"/>
                <a:ext cx="58755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$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Prob.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summary of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ower of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pute any prob., by summing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7" name=""/>
          <p:cNvGraphicFramePr/>
          <p:nvPr/>
        </p:nvGraphicFramePr>
        <p:xfrm>
          <a:off x="3276720" y="2286000"/>
          <a:ext cx="5105160" cy="1233360"/>
        </p:xfrm>
        <a:graphic>
          <a:graphicData uri="http://schemas.openxmlformats.org/drawingml/2006/table">
            <a:tbl>
              <a:tblPr/>
              <a:tblGrid>
                <a:gridCol w="1447560"/>
                <a:gridCol w="684360"/>
                <a:gridCol w="990720"/>
                <a:gridCol w="990360"/>
                <a:gridCol w="9921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68    (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.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:  Random Variables  X &amp; Y are independent when knowled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ue of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change ch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ues of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.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64    (Indep., Dep., D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w of Larg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                 are independent draws from the same distribution, with mean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eds more mathematics to make precise, but this is the main 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14400" y="2133720"/>
                <a:ext cx="1981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477120" y="2819520"/>
                <a:ext cx="4442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819520" y="3733920"/>
                <a:ext cx="2666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{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r>
                          <m:rPr>
                            <m:lit/>
                            <m:nor/>
                          </m:rPr>
                          <m:t xml:space="preserve">}  cSub { size 8{n rightarrow  infinity } } </m:t>
                        </m:r>
                      </m:e>
                    </m:func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 flipH="1" flipV="1">
            <a:off x="457200" y="46479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7200" y="4114800"/>
            <a:ext cx="2362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 Law of Larg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this is the foundation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view of proba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y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ought experi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ased on many replications, so limit work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consider discrete random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stribution is summarized by a 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2438280" y="3429000"/>
          <a:ext cx="5105160" cy="1233360"/>
        </p:xfrm>
        <a:graphic>
          <a:graphicData uri="http://schemas.openxmlformats.org/drawingml/2006/table">
            <a:tbl>
              <a:tblPr/>
              <a:tblGrid>
                <a:gridCol w="1447560"/>
                <a:gridCol w="684360"/>
                <a:gridCol w="990720"/>
                <a:gridCol w="990360"/>
                <a:gridCol w="9921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connect via frequentist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705720" y="259092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04920" y="2362320"/>
                <a:ext cx="556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3429000"/>
                <a:ext cx="6386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71600" y="4800600"/>
                <a:ext cx="69343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connect via frequentist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371600" y="4294080"/>
                <a:ext cx="64771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705720" y="281952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33520" y="2286000"/>
                <a:ext cx="5486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371600" y="3352680"/>
                <a:ext cx="70102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371600" y="5257800"/>
                <a:ext cx="2743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90920" y="3171960"/>
                <a:ext cx="38098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 flipH="1" flipV="1">
            <a:off x="3200400" y="403812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952880" y="403812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1/2)*5^2+(1/6)*1^2+(1/3)*8^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eptable Excel form,             e.g. for exam (but there are m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32" name=""/>
          <p:cNvGraphicFramePr/>
          <p:nvPr/>
        </p:nvGraphicFramePr>
        <p:xfrm>
          <a:off x="4648320" y="160020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09480" y="2971800"/>
                <a:ext cx="5943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924680" y="3429000"/>
                <a:ext cx="6112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 flipH="1">
            <a:off x="4800600" y="3733920"/>
            <a:ext cx="3124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89548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571640" y="3657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800600" y="3581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of Discrete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approach to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419720"/>
                <a:ext cx="7162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2057400"/>
                <a:ext cx="33526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43000" y="5410080"/>
                <a:ext cx="43434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43000" y="3200400"/>
                <a:ext cx="7488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tandard deviation is square root of variance (same units as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sqrt((1/2)*5^2+(1/6)*1^2+(1/3)*8^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43" name=""/>
          <p:cNvGraphicFramePr/>
          <p:nvPr/>
        </p:nvGraphicFramePr>
        <p:xfrm>
          <a:off x="4724280" y="380988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14:    Find the variance and standard deviation of the distribution in 4.60.        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굴림"/>
              </a:rPr>
              <a:t>1.21, 1.10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ignore shifts”  var(            ) = var (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s se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cales come through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s.d. on scale of data, var is squ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238880" y="2514600"/>
                <a:ext cx="77328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334120" y="1676520"/>
                <a:ext cx="2971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7704000" y="3019320"/>
            <a:ext cx="897120" cy="258840"/>
          </a:xfrm>
          <a:custGeom>
            <a:avLst/>
            <a:gdLst/>
            <a:ahLst/>
            <a:rect l="l" t="t" r="r" b="b"/>
            <a:pathLst>
              <a:path w="565" h="163">
                <a:moveTo>
                  <a:pt x="565" y="157"/>
                </a:moveTo>
                <a:cubicBezTo>
                  <a:pt x="518" y="143"/>
                  <a:pt x="490" y="114"/>
                  <a:pt x="451" y="87"/>
                </a:cubicBezTo>
                <a:cubicBezTo>
                  <a:pt x="423" y="47"/>
                  <a:pt x="357" y="7"/>
                  <a:pt x="309" y="0"/>
                </a:cubicBezTo>
                <a:cubicBezTo>
                  <a:pt x="249" y="4"/>
                  <a:pt x="193" y="10"/>
                  <a:pt x="135" y="27"/>
                </a:cubicBezTo>
                <a:cubicBezTo>
                  <a:pt x="119" y="38"/>
                  <a:pt x="105" y="42"/>
                  <a:pt x="86" y="49"/>
                </a:cubicBezTo>
                <a:cubicBezTo>
                  <a:pt x="49" y="86"/>
                  <a:pt x="85" y="45"/>
                  <a:pt x="65" y="81"/>
                </a:cubicBezTo>
                <a:cubicBezTo>
                  <a:pt x="59" y="93"/>
                  <a:pt x="43" y="114"/>
                  <a:pt x="43" y="114"/>
                </a:cubicBezTo>
                <a:cubicBezTo>
                  <a:pt x="36" y="136"/>
                  <a:pt x="26" y="139"/>
                  <a:pt x="5" y="147"/>
                </a:cubicBezTo>
                <a:cubicBezTo>
                  <a:pt x="3" y="152"/>
                  <a:pt x="0" y="163"/>
                  <a:pt x="0" y="163"/>
                </a:cubicBezTo>
                <a:lnTo>
                  <a:pt x="565" y="1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3048120"/>
            <a:ext cx="896760" cy="258480"/>
          </a:xfrm>
          <a:custGeom>
            <a:avLst/>
            <a:gdLst/>
            <a:ahLst/>
            <a:rect l="l" t="t" r="r" b="b"/>
            <a:pathLst>
              <a:path w="565" h="163">
                <a:moveTo>
                  <a:pt x="565" y="157"/>
                </a:moveTo>
                <a:cubicBezTo>
                  <a:pt x="518" y="143"/>
                  <a:pt x="490" y="114"/>
                  <a:pt x="451" y="87"/>
                </a:cubicBezTo>
                <a:cubicBezTo>
                  <a:pt x="423" y="47"/>
                  <a:pt x="357" y="7"/>
                  <a:pt x="309" y="0"/>
                </a:cubicBezTo>
                <a:cubicBezTo>
                  <a:pt x="249" y="4"/>
                  <a:pt x="193" y="10"/>
                  <a:pt x="135" y="27"/>
                </a:cubicBezTo>
                <a:cubicBezTo>
                  <a:pt x="119" y="38"/>
                  <a:pt x="105" y="42"/>
                  <a:pt x="86" y="49"/>
                </a:cubicBezTo>
                <a:cubicBezTo>
                  <a:pt x="49" y="86"/>
                  <a:pt x="85" y="45"/>
                  <a:pt x="65" y="81"/>
                </a:cubicBezTo>
                <a:cubicBezTo>
                  <a:pt x="59" y="93"/>
                  <a:pt x="43" y="114"/>
                  <a:pt x="43" y="114"/>
                </a:cubicBezTo>
                <a:cubicBezTo>
                  <a:pt x="36" y="136"/>
                  <a:pt x="26" y="139"/>
                  <a:pt x="5" y="147"/>
                </a:cubicBezTo>
                <a:cubicBezTo>
                  <a:pt x="3" y="152"/>
                  <a:pt x="0" y="163"/>
                  <a:pt x="0" y="163"/>
                </a:cubicBezTo>
                <a:lnTo>
                  <a:pt x="565" y="1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2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91520" y="3276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010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and 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importa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 Variance of sum is sum of vari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“more natural”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ndard 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819520" y="2514600"/>
                <a:ext cx="38098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971800" y="5638680"/>
                <a:ext cx="38098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g. abov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“double the stakes”, g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e 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s “play twice”, but see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twic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playing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duces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f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 idea, will do more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69" name=""/>
          <p:cNvGraphicFramePr/>
          <p:nvPr/>
        </p:nvGraphicFramePr>
        <p:xfrm>
          <a:off x="4724280" y="137160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666880" y="3809880"/>
                <a:ext cx="1636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334120" y="4495680"/>
                <a:ext cx="35049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of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74   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굴림"/>
              </a:rPr>
              <a:t>(a) 550, 5.7,  (b) 0, 5.7,  (c) 1022, 10.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of Discrete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approach to me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ighted 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4120" y="2209680"/>
                <a:ext cx="213336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 flipV="1">
            <a:off x="5638680" y="3429000"/>
            <a:ext cx="2133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467120" y="3048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6933960" y="3048120"/>
            <a:ext cx="152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629400" y="42670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of Discrete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Above Die Rolling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of distributio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/3)(9) + (1/6)(0) +(1/2)(-4)  =  3 - 2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ver large number of plays) winnings per play = $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 should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y hap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6" name=""/>
          <p:cNvGraphicFramePr/>
          <p:nvPr/>
        </p:nvGraphicFramePr>
        <p:xfrm>
          <a:off x="4495680" y="2133720"/>
          <a:ext cx="3581280" cy="105084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of Discrete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    mean is also call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Valu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 above game “expect” $1 (per pl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ution: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60    (2.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Marron</cp:lastModifiedBy>
  <dcterms:modified xsi:type="dcterms:W3CDTF">2005-03-23T20:13:14Z</dcterms:modified>
  <cp:revision>627</cp:revision>
  <dc:subject/>
  <dc:title>Slide 1</dc:title>
</cp:coreProperties>
</file>