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DDA7-B2DD-4DCA-B6AE-5957ECBF9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FF46-8B62-44A6-811D-269A71B1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F44B-B82A-4B07-9606-61F4ECED3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1763-473F-4AF2-9891-6F602B799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A21F-A5FF-4E5F-89E4-863224A6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149F-FEB3-4289-86E2-F67278A2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8236-5FAB-4909-BB13-E58B549B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9E4A-6627-4493-AAF7-9E0DA77D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F694-0267-4590-AE22-7C0AAC20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8F9E-9CA0-4B39-8BC5-35FEB6B4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5864-86D1-4B44-9745-53127402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4B30-1FDE-4EC1-8758-C593ED07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4526-9289-42EE-A660-74C5707DC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Eg17.xls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 31,  Section 1, La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s in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5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5.6    (.0074, .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work using Binomial Distribution:    4.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pe” of Binomial Distrib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bability Hist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ust a bar graph, where heights are proba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e:  connected to previous histogram by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frequentist vie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via histogram of repeated sampl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Distribution Shapes using 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s://www.unc.edu/~marron/UNCstat31-2005/Stat31Eg18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I:  different p,  note several ranges of p are sh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II:  different n,  note really “live in different area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ok under the 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s://www.unc.edu/~marron/UNCstat31-2005/Stat31Eg18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probability histograms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Column of xs (e.g. B9:B2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Probs (using BINOMDIST, C9:J2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t with Chart Wiz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Chart &amp; Chart Wiz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steps, check “series” careful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some calculation, can show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X ~ Bi(n,p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:                                 (# trials x P{S}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 D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 to (center &amp; spread) of each his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s://www.unc.edu/~marron/UNCstat31-2005/Stat31Eg18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133720" y="3048120"/>
                <a:ext cx="289548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666880" y="3657600"/>
                <a:ext cx="48006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3657600" y="4419720"/>
                <a:ext cx="28018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3962520" y="3505320"/>
            <a:ext cx="76176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57800" y="4191120"/>
            <a:ext cx="220968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4952880"/>
            <a:ext cx="182880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:  Class HW on %Males at UN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s://www.unc.edu/~marron/UNCstat31-2005/Stat31Eg16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eoretical Means in E115:H115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to Sample Means in E110:H11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1:  Sample Mean smaller – course not represen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2:  Sample Mean bigger – bias toward 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3:  Sample Mean bigger – bias toward 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4:  Sample Mean 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differences are “significant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:  Class HW on %Males at UN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s://www.unc.edu/~marron/UNCstat31-2005/Stat31Eg16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eoretical SDs in E116:H115,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to Sample SDs in E112:H11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1:  Sample SDs smaller – course population sm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2:  Sample SDs bigger – variety of doors (different 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3:  Sample SDs bigger – variety of choices (diff. p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4:  Sample SDs 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differences are “significant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:  Class HW on %Males at UN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s://www.unc.edu/~marron/UNCstat31-2005/Stat31Eg16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ty Histograms  (see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lumn of plots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view of above ideas (for sample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1:  mean too small, not enough sp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2:  mean too big, too sp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3:  mean too big, too sp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4:  looks “about right”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5.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5.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Approximation to the Bi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(n,p) prob. histo.                             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c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pproxim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inomial probs with normal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114800" y="3276720"/>
                <a:ext cx="31240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  <m:r>
                          <m:t xml:space="preserve">,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ing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Extend probability tools to distributions we care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s in Political Po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 Err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Approx. to Binom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modern software, this was a critical issue, since Binomial Table (C in text) only goes to n = 2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Approx made this possibl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till useful, since BINONDIST conks out around n = 1000 (but political polls need    n ~ 2000-300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Approx. to Binom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ization of Normal Approxim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s://www.unc.edu/~marron/UNCstat31-2005/Stat31Eg18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(100,0.3):   Looks really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(20,0.5):   Chunky, approx. a little w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(20,0.05):   p too small for good appr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(20,0.95):   p too big for good appr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Approx. to Binom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s Normal Approximation “acceptable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s “Rule of Thumb” (there are other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:     np &gt;= 10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n(1-p) &gt;=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 to above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(20,0.5):   np = n(1-p) = 10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undary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(20,0.05):   np = 4 &lt; 10, poor appr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(20,0.95):    n(1-p) = 4 &lt; 10, poor appr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Approx. to Binom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5.23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5.24  (1050, 17.7, 0.997, ~0, 0.29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Approx. to Binom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704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15:  In a political poll of 2000, 1010 will vote for A.  To decide how “safe” it is to predict A will w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-70416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alculate P{X &gt;= 1010}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r X ~ Bi(2000,1/2)      (0.32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“could happen”, so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not saf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to predi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-70416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calculate, assuming 1050 will vote for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0.012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now have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stronger evidenc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 will build on th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Important “scales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u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X ~ Bi(n,p)      (done abo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por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~ percentage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n [0,1]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very natur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political po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505320" y="3886200"/>
                <a:ext cx="129528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for 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 betweens means and S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“on average, expect”    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143000" y="2362320"/>
                <a:ext cx="6172200" cy="106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np</m:t>
                    </m:r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5486400" y="3429000"/>
                <a:ext cx="10555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≈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143000" y="4114800"/>
                <a:ext cx="693432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np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990720" y="5410080"/>
                <a:ext cx="32004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6934320" y="2590920"/>
            <a:ext cx="380880" cy="609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81680" y="4191120"/>
            <a:ext cx="1371600" cy="99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5334120"/>
            <a:ext cx="2209680" cy="1143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for 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Approx for Propor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just uses above means and S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743200" y="2438280"/>
                <a:ext cx="4114800" cy="12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≈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r>
                          <m:t xml:space="preserve">,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for 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5.25    work with both BINOMDIST and Normal Appr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s in Political Po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model:    Binomi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ing:    n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dependent tri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n experiment with outcomes “Success” and “Failure”, with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{S} = 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  X = #S’s  has a “Binomial(n,p) distribution”, and write   “X ~ Bi(n,p)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arameters, like          for Normal dis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800600" y="5715000"/>
                <a:ext cx="9907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∧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 flipV="1">
            <a:off x="2895480" y="56386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56386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6629400" y="5409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6629400" y="54097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s much more than political pol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Coin tossin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call saw “independence” was go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Shooting free throws (in basketba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 p  always the sa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ly independent?   (turns out to be 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 on Binomial Assum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5.1,   5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Dis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work out a formula for Binomial Prob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results are summarized in Excel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OMD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Stat31Eg17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s in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mpute   P{X=x},     for  X ~ Bi(n,p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267080" y="2590920"/>
            <a:ext cx="4496040" cy="3216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14600" y="2895480"/>
            <a:ext cx="21337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590920" y="3505320"/>
            <a:ext cx="22860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590920" y="3733560"/>
            <a:ext cx="190476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s in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mpute   P{X=x},     for  X ~ Bi(n,p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mulati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=x}: 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&lt;=x}: 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267080" y="2590920"/>
            <a:ext cx="4496040" cy="3216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590920" y="3809880"/>
            <a:ext cx="1981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al Probs in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s://www.unc.edu/~marron/UNCstat31-2005/Stat31Eg17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this spreadsheet for details of other parts, and some important var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 </dc:creator>
  <dc:description/>
  <dc:language>en-US</dc:language>
  <cp:lastModifiedBy>Marron</cp:lastModifiedBy>
  <dcterms:modified xsi:type="dcterms:W3CDTF">2005-03-22T15:08:50Z</dcterms:modified>
  <cp:revision>674</cp:revision>
  <dc:subject/>
  <dc:title>Slide 1</dc:title>
</cp:coreProperties>
</file>