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0EF-F6E5-46D4-A151-A9EA152C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471-BD20-476F-83A1-8C838FA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3B6-A2DF-4B6E-9A3B-A3AE8DD0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C38-6016-4C1C-90DF-F42C85BE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32B-E727-4FC8-AA6C-02A3D30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140-CB91-4881-B112-7D3279C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D69-4CE8-4D52-B384-5D783C3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8B0-84A7-4EB6-9FEB-06D8203C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45E-CF1E-4668-B9D1-4105A1F2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341-9B8F-4F89-8E9B-29077B9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E93-6E1C-4B77-9326-B4020C1E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5D0-E401-4CC9-9053-C3D4D8C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AED-4850-43D4-A0B5-BEB0FCC2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mstat.org/publications/jse/v6n3/applets/CLT.html" TargetMode="External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uf.rice.edu/~lane/stat_sim/sampling_dist/index.html" TargetMode="External"/><Relationship Id="rId2" Type="http://schemas.openxmlformats.org/officeDocument/2006/relationships/hyperlink" Target="http://www.ruf.rice.edu/~lane/stat_sim/sampling_dist/index.html" TargetMode="External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9.xls" TargetMode="External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0.xls" TargetMode="External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ial Pr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Scale    vs.   Proportion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know center and spread, what about “shape of distribu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    If                      are ind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new these, news is “mound shap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work with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124080" y="2819520"/>
                <a:ext cx="1676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010280" y="2819520"/>
                <a:ext cx="14479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352680" y="3581280"/>
                <a:ext cx="28195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flipV="1">
            <a:off x="3962520" y="4343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434340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   If                   are “almost anyth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1828800"/>
                <a:ext cx="16765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3505320"/>
                <a:ext cx="4395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95880" y="3200400"/>
                <a:ext cx="19576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:   in term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Law of Averages, Part I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entral Limit Theor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sense in which Normal Distribu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name “Normal” (ostentatiou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24480" y="2286000"/>
                <a:ext cx="68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ma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we will work with NORMDIST &amp; NORMINV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a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Normal Dist’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different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y sum of small indep. Random pie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explains Normal Approximation to the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by Law of Averages. II, si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X  ~  Binomial (n.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present X a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 X  is an average (rescaled sum), so Law of Averages gives Norma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410080" y="2666880"/>
                <a:ext cx="16383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3733920"/>
                <a:ext cx="38862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rial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rial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Java De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stat.org/publications/jse/v6n3/applets/CL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ice (think n = 1):    Average Dist’n is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ce (n = 1):    Average Dist’n is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Dice (n = 5):  Looks quite “mound shap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ol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uf.rice.edu/~lane/stat_sim/sampling_dis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U shaped distribut’n with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. samples of size 2:  non-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n = 5:  mor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n = 10 or 25:   mound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9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ing from non-normal sha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s becom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o for more aver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smaller with more averaging 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391520" y="4724280"/>
                <a:ext cx="7142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5.31,  5.33,  5.35,  5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ly differen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statistics professor was describing sampling theory to his class, explaining how a sample can be studied and used to generalize to a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ortant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Midterm Date Chang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esday,  April 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esday,  April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: Statistical I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 conclu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ying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study several approa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6.1: Confidence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 mean,       ,     is an “estimate” of the population mea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is “variability”, how much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191120" y="2286000"/>
                <a:ext cx="506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3048120"/>
                <a:ext cx="3841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Sampling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be an approx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72000" y="2286000"/>
                <a:ext cx="28954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4267080" y="30481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understand error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xplain to untrained consum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o don’t know randomnes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, normal cur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5713" t="22856" r="47142" b="65140"/>
          <a:stretch/>
        </p:blipFill>
        <p:spPr>
          <a:xfrm>
            <a:off x="5486400" y="1066680"/>
            <a:ext cx="2749680" cy="28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57600" y="2209680"/>
                <a:ext cx="1676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'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848720" y="2438280"/>
                <a:ext cx="662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010280" y="4114800"/>
                <a:ext cx="376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324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2388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5909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129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  present a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ndpoints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 +-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ng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oose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3962520"/>
                <a:ext cx="1498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29000" y="5562720"/>
                <a:ext cx="4572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rcRect l="43263" t="19428" r="43263" b="62854"/>
          <a:stretch/>
        </p:blipFill>
        <p:spPr>
          <a:xfrm>
            <a:off x="6553080" y="4114800"/>
            <a:ext cx="2203560" cy="188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72200" y="50292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32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09680" y="4495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“Confidence Interval radius”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 of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solute 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e. including “everything”)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inite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normal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e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fy desired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14800" y="2133720"/>
                <a:ext cx="484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“Confidence Interval radius”,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de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0.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FDA likes this number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ing new drugs, and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mmon standar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 in many fie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ake margin of error to includ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f 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620120" y="1371600"/>
                <a:ext cx="48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confidence level  0.95, 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0.95 =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91120" y="5638680"/>
                <a:ext cx="380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" descr=""/>
          <p:cNvPicPr/>
          <p:nvPr/>
        </p:nvPicPr>
        <p:blipFill>
          <a:blip r:embed="rId1"/>
          <a:srcRect l="43263" t="19428" r="43263" b="65140"/>
          <a:stretch/>
        </p:blipFill>
        <p:spPr>
          <a:xfrm>
            <a:off x="685800" y="2286000"/>
            <a:ext cx="3308400" cy="246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2000" y="2819520"/>
                <a:ext cx="422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09680" y="5867280"/>
                <a:ext cx="362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362320" y="24382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73392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3048120"/>
            <a:ext cx="1676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666880" y="44190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752480" y="44190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04776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819160" y="50288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04760" y="5028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:    Recall NORMINV takes areas (probs), and retur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t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  NORMINV work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w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lower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724280" y="36576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>
            <a:off x="6858000" y="327672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209680" y="502884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dapt needed probs to lower are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ner area = 0.9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ail = 0.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aded Area = 0.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419720" y="5326200"/>
                <a:ext cx="426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816440" y="22860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91320" y="3429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048120"/>
            <a:ext cx="1981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86640" y="33523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23623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1320" y="2743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27432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5.2:  Distrib’n of Sample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Study Probability Struct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Expected Valu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934320" y="1219320"/>
                <a:ext cx="2057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276720" y="220968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19920" y="4572000"/>
                <a:ext cx="1600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95880" y="5334120"/>
                <a:ext cx="60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:        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hould answer depend on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” is only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e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ther view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1981080"/>
                <a:ext cx="411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81280" y="3352680"/>
                <a:ext cx="457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934320" y="4038480"/>
                <a:ext cx="363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unknown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e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look at              dist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 at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n calcula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81280" y="5562720"/>
                <a:ext cx="4678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72000" y="1447920"/>
                <a:ext cx="457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95680" y="1981080"/>
                <a:ext cx="116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rcRect l="42517" t="20571" r="42517" b="62854"/>
          <a:stretch/>
        </p:blipFill>
        <p:spPr>
          <a:xfrm>
            <a:off x="4876920" y="2514600"/>
            <a:ext cx="3665520" cy="263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93432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520" y="2286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191120"/>
            <a:ext cx="4114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Problem:   Don’t know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  Estimat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y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  Sometimes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962520" y="1219320"/>
                <a:ext cx="4678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RMIN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248520" y="2286000"/>
                <a:ext cx="4572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7120" y="5257800"/>
                <a:ext cx="363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67280" y="3048120"/>
                <a:ext cx="2714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rop researchers plant 15 plots with a new variety of corn.  The yields, in bushels per acr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      = 10 bushels / 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010280" y="1447920"/>
          <a:ext cx="1447920" cy="50241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048120" y="4572000"/>
                <a:ext cx="438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0% Confidence Interval for the mean value     , for this type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5% Confidenc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99% Confidenc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CIs change as the confidence level incr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 part 1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2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L shortc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arameter      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tailed outer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or level = 0.90,         = 0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95680" y="3048120"/>
                <a:ext cx="457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419720" y="5943600"/>
                <a:ext cx="3632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rcRect l="43263" t="19428" r="43263" b="65140"/>
          <a:stretch/>
        </p:blipFill>
        <p:spPr>
          <a:xfrm>
            <a:off x="5334120" y="3048120"/>
            <a:ext cx="3308400" cy="2465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V="1">
            <a:off x="6095880" y="419076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24680" y="419076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72000" y="35053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943240" y="3505320"/>
            <a:ext cx="6094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505320"/>
            <a:ext cx="15242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6.1, 6.3,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cted Value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           relate to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n “h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” as the original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514600" y="1676520"/>
                <a:ext cx="923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410080" y="1600200"/>
                <a:ext cx="457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85800" y="2286000"/>
                <a:ext cx="5715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71600" y="3733920"/>
                <a:ext cx="5410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nce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“spread” (i.e. quantify variation)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of Sample mean “reduced by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924680" y="1600200"/>
                <a:ext cx="57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8200" y="2209680"/>
                <a:ext cx="73105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371600" y="3733920"/>
                <a:ext cx="6858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620120" y="4876920"/>
                <a:ext cx="446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 D.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Standard Deviation is square root of Vari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quare roots to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D. of Sample mean “reduced by 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638680" y="3048120"/>
                <a:ext cx="2219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0" y="4724280"/>
                <a:ext cx="7542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&amp; S. D. of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uces var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acto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Law of Averages, Part 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934320" y="3200400"/>
                <a:ext cx="7538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equences (worth notin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double accuracy”, ne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times as much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10 times accuracy”, ne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0 times as much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Averages, Pa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5.28    (5.77, 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3-22T13:24:14Z</dcterms:modified>
  <cp:revision>781</cp:revision>
  <dc:subject/>
  <dc:title>Slide 1</dc:title>
</cp:coreProperties>
</file>