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217D-4DE0-4BA8-908F-37E03F609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6ECA-83E1-401C-8831-0B7B85C9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9979-F961-4677-90B9-C05B2A22B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05E0-0D6C-43B7-A5E8-C42BCB965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DFC7-698B-4A95-A432-26E3D25E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FB89-13B2-4561-9466-4CCD5A0D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1850-CB3E-493B-8744-FDC0B6F3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9707-1052-4962-9ABC-86E30735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D809-E7D4-43CF-A48B-C99FFA82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5FD9-5712-4B0F-9A0F-28FFF09E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8D6C-3BC7-4D48-8557-BC0BAA51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7667-9811-4503-B596-0A536734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BCB9-95B2-4FFE-B7FF-D39CFE1FF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mstat.org/publications/jse/v6n3/applets/ConfidenceInterval.html" TargetMode="External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Eg16.xls" TargetMode="External"/><Relationship Id="rId2" Type="http://schemas.openxmlformats.org/officeDocument/2006/relationships/hyperlink" Target="https://www.unc.edu/~marron/UNCstat31-2005/Stat31Eg21.xls" TargetMode="External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Eg21.xls" TargetMode="External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Eg22.xls" TargetMode="External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Eg20.xls" TargetMode="External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 31,  Section 1, Last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 of Sample M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Valu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c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ss,   Law of Averages,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’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rmal,  Law of Averages,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al I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 Interv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 of Conf. Interv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tist View:    If repeat the experiment many tim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bout 95% of the time, CI will con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nd 5% of the time it won’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7543800" y="3048120"/>
                <a:ext cx="35244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 of Conf. Interv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ice Applet, from Ogden and W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mstat.org/publications/jse/v6n3/applets/ConfidenceInterv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a few a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interval” allows re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verage” about 2.5/50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on’t c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idea of “% coverag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 of Conf. Interv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it Class Example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~marron/UNCstat31-2005/Stat31Eg16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Class HW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% of Male Students at UN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 View:  Class Example 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www.unc.edu/~marron/UNCstat31-2005/Stat31Eg21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s ide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 should cover 95%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 of Conf. Interv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~marron/UNCstat31-2005/Stat31Eg21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1:  SD too small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oo many c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2:  SD too big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oo few c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3:  Big Bias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oo few c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4:  Good sampling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bout rig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5:  Simulated Bi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Shows “natural var’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 of Conf. Interv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  6.23,    6.26  (0.857,  0.135,  0.99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. 6.2    Tests of Signific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Hypothesis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Picture Vie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way of handl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a different view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  Answer yes or no questions, under uncertai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.g. from sampling of measurement err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Candidate A win the ele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smoking cause canc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Brand X better than Brand 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drug effe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proposed new business strategy effe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arketing research focuses on th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A fast food chain currently brings in profits of $20,000 per store, per day.  A new menu is proposed.  Would it be more profi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 Have 10 stores (randomly selected!) try the new menu, let        = average of their daily prof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486400" y="4495680"/>
                <a:ext cx="4986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 Food Busine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st View:    for                         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menu looks b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 looks wo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 New menu might be no better (or even worse), but could 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bad luck of samp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nly sample of size  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572000" y="1447920"/>
                <a:ext cx="23623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≥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371600" y="4800600"/>
                <a:ext cx="213372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≥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 Food Busine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   How to handle &amp;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uantify gray 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se deci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Can never mak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finite conclus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as in Mathematics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 is more about real lif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.g. even if             or                      ,  that might be bad luck of sampling, althoug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ery unlik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895480" y="4724280"/>
                <a:ext cx="114300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&lt;</m:t>
                    </m:r>
                    <m:r>
                      <m:t xml:space="preserve">$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572000" y="4724280"/>
                <a:ext cx="25146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&gt;</m:t>
                    </m:r>
                    <m:r>
                      <m:t xml:space="preserve">$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 flipV="1">
            <a:off x="1066680" y="3352680"/>
            <a:ext cx="15242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ice of Sample S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use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rgin of err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:            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n                              Larg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28070" t="37674" r="29857" b="39558"/>
          <a:stretch/>
        </p:blipFill>
        <p:spPr>
          <a:xfrm>
            <a:off x="838080" y="4191120"/>
            <a:ext cx="3048120" cy="1652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581280" y="2286000"/>
                <a:ext cx="5335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47" name="" descr=""/>
          <p:cNvPicPr/>
          <p:nvPr/>
        </p:nvPicPr>
        <p:blipFill>
          <a:blip r:embed="rId2"/>
          <a:srcRect l="28070" t="37674" r="23885" b="37674"/>
          <a:stretch/>
        </p:blipFill>
        <p:spPr>
          <a:xfrm>
            <a:off x="5638680" y="4191120"/>
            <a:ext cx="3308400" cy="1793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343400" y="3930480"/>
                <a:ext cx="91440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1295280" y="5486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4952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7162920" y="4952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429000" y="441972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4191120"/>
            <a:ext cx="11430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Can never make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finite conclu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asure strength of evid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 I:      (note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among 3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ypothe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Strong evidence new menu is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Evidence in inconclu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Strong evidence new menu is wo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inolo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s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ull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up: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in term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.e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pu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a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call population vs. s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 Food Busine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 Let       = true (ov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ores) daily profit from new me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                          (new is bet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                          (about the s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                          (new is wor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523880" y="5029200"/>
                <a:ext cx="22100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&lt;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523880" y="3429000"/>
                <a:ext cx="22100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&gt;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523880" y="4195800"/>
                <a:ext cx="22860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590920" y="1905120"/>
                <a:ext cx="39204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 Food Busine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556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 decision 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st gu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556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antify strength of the evid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ing probability distribution of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556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Choose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556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556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676520" y="5943600"/>
                <a:ext cx="26668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676520" y="4267080"/>
                <a:ext cx="25444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676520" y="5105520"/>
                <a:ext cx="236196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≈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6400800" y="1828800"/>
                <a:ext cx="4953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5943600" y="36576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6781680" y="2437920"/>
            <a:ext cx="6098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 Food Busine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7963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draw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ere are many way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is traditional approa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ist that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r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 show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rong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 They ge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urden of pro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ote: one way of solv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ray area probl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 Food Busine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rength of evid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ask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strange is observed value     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ing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s tru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rticular, 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ils of  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distrib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measure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rength of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7162920" y="2590920"/>
                <a:ext cx="4572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 Food Busine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796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ils of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distrib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measure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rength of evid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ed valu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is probab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meas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rength of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29164" t="39712" r="31247" b="31990"/>
          <a:stretch/>
        </p:blipFill>
        <p:spPr>
          <a:xfrm>
            <a:off x="990720" y="2514600"/>
            <a:ext cx="312408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7924680" y="4952880"/>
                <a:ext cx="4572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562720" y="2286000"/>
                <a:ext cx="457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295280" y="4952880"/>
                <a:ext cx="16765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 flipH="1">
            <a:off x="3047760" y="2514600"/>
            <a:ext cx="24382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523880" y="472392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504960" y="5257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3352680" y="480060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666880" y="4571640"/>
            <a:ext cx="7621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thesi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7963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-va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or either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what was seen, or more conclusive |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1:  small p-value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rong evidence again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i.e.  for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r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2:  p-value is also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bserved significance lev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 Food Busine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observe:                     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                       ,  but is this conclus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could this be due to natural sampling vari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.e. do we risk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s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ney from new menu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6629400" y="1676520"/>
                <a:ext cx="198108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$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962520" y="1676520"/>
                <a:ext cx="23428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200400" y="2362320"/>
                <a:ext cx="106668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752480" y="2971800"/>
                <a:ext cx="23623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&gt;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 Food Busine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7963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evidence for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p-value  = 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952880" y="2438280"/>
                <a:ext cx="38862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ist</m:t>
                    </m:r>
                    <m:r>
                      <m:t xml:space="preserve">'</m:t>
                    </m:r>
                    <m:r>
                      <m:t xml:space="preserve">n</m:t>
                    </m:r>
                    <m:r>
                      <m:t xml:space="preserve">≈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0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895480" y="4952880"/>
                <a:ext cx="106704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676520" y="4952880"/>
                <a:ext cx="10666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1" name="" descr=""/>
          <p:cNvPicPr/>
          <p:nvPr/>
        </p:nvPicPr>
        <p:blipFill>
          <a:blip r:embed="rId1"/>
          <a:srcRect l="31247" t="39712" r="33331" b="31990"/>
          <a:stretch/>
        </p:blipFill>
        <p:spPr>
          <a:xfrm>
            <a:off x="990720" y="2209680"/>
            <a:ext cx="3098520" cy="23367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 flipH="1">
            <a:off x="3048120" y="2819520"/>
            <a:ext cx="1828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209680" y="45716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3048120" y="457164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114800" y="502884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3276720" y="434304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ice of Sample S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choose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o make     = desire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S. D. is not very interpretable, so make “margin of error”,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desire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get:    “      is within  m  units of     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5% of the tim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257800" y="1447920"/>
                <a:ext cx="39060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σ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819520" y="4800600"/>
                <a:ext cx="4572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7315200" y="4876920"/>
                <a:ext cx="4237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 Food Busine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tion in EXC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2, Part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~marron/UNCstat31-2005/Stat31Eg22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 = 0.0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ice of Sample S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how do we find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for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(the equatio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762120" y="2895480"/>
                <a:ext cx="771984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e>
                        </m:d>
                        <m:r>
                          <m:t xml:space="preserve">≤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  <m:r>
                                  <m:t xml:space="preserve">/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  <m:r>
                          <m:t xml:space="preserve">≤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σ</m:t>
                            </m:r>
                            <m:r>
                              <m:t xml:space="preserve">/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676520" y="4191120"/>
                <a:ext cx="318132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≤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σ</m:t>
                            </m:r>
                            <m:r>
                              <m:t xml:space="preserve">/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ice of Sample S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cally, find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so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rea = 0.95                       Area = 0.9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7238880" y="5562720"/>
                <a:ext cx="10494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σ</m:t>
                        </m:r>
                        <m:r>
                          <m:t xml:space="preserve">/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581280" y="5638680"/>
                <a:ext cx="105120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σ</m:t>
                        </m:r>
                        <m:r>
                          <m:t xml:space="preserve">/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68" name="" descr=""/>
          <p:cNvPicPr/>
          <p:nvPr/>
        </p:nvPicPr>
        <p:blipFill>
          <a:blip r:embed="rId1"/>
          <a:srcRect l="31847" t="33907" r="33837" b="37674"/>
          <a:stretch/>
        </p:blipFill>
        <p:spPr>
          <a:xfrm>
            <a:off x="1676520" y="3352680"/>
            <a:ext cx="2361960" cy="2068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31847" t="33907" r="33837" b="37674"/>
          <a:stretch/>
        </p:blipFill>
        <p:spPr>
          <a:xfrm>
            <a:off x="5334120" y="3352680"/>
            <a:ext cx="2367000" cy="20732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219320" y="2514600"/>
            <a:ext cx="13716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3600" y="2590920"/>
            <a:ext cx="30492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4648320"/>
            <a:ext cx="0" cy="1447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62920" y="46483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ice of Sample S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 sol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200400" y="4648320"/>
                <a:ext cx="472428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σ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NORMIN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75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0,1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438280" y="2286000"/>
                <a:ext cx="510084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σ</m:t>
                        </m:r>
                        <m:r>
                          <m:t xml:space="preserve">/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ORMIN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5</m:t>
                        </m:r>
                        <m:r>
                          <m:t xml:space="preserve">,</m:t>
                        </m:r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819520" y="3460680"/>
                <a:ext cx="480060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NORMIN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5</m:t>
                        </m:r>
                        <m:r>
                          <m:t xml:space="preserve">,</m:t>
                        </m:r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ice of Sample S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Implemen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 20, Part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~marron/UNCstat31-2005/Stat31Eg20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  6.19,  6.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057400" y="1752480"/>
                <a:ext cx="472428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σ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NORMIN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75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0,1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 of Conf. Interv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Equivalent Vie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                 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9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 1                               pic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32819" t="35034" r="36922" b="45545"/>
          <a:stretch/>
        </p:blipFill>
        <p:spPr>
          <a:xfrm>
            <a:off x="1219320" y="3048120"/>
            <a:ext cx="2647800" cy="2185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rcRect l="32819" t="35034" r="36922" b="45545"/>
          <a:stretch/>
        </p:blipFill>
        <p:spPr>
          <a:xfrm>
            <a:off x="5410080" y="3048120"/>
            <a:ext cx="2648160" cy="2187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295280" y="5410080"/>
                <a:ext cx="76212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−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438280" y="5410080"/>
                <a:ext cx="3049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124080" y="5410080"/>
                <a:ext cx="762120" cy="3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+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715000" y="5410080"/>
                <a:ext cx="45720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705720" y="5334120"/>
                <a:ext cx="18864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7543800" y="5410080"/>
                <a:ext cx="26352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371600" y="2133720"/>
                <a:ext cx="39204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4876920" y="2092320"/>
                <a:ext cx="9903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 flipH="1">
            <a:off x="2895480" y="3657600"/>
            <a:ext cx="1371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57800" y="358128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 of Conf. Interv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ematical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 1                            pic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066680" y="5410080"/>
                <a:ext cx="769644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,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t xml:space="preserve">m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ital </m:t>
                        </m:r>
                        <m:r>
                          <m:t xml:space="preserve">brackets</m:t>
                        </m:r>
                        <m:r>
                          <m:rPr>
                            <m:lit/>
                            <m:nor/>
                          </m:rPr>
                          <m:t xml:space="preserve">`μ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57200" y="2362320"/>
                <a:ext cx="81532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μ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≤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≤</m:t>
                        </m:r>
                        <m:r>
                          <m:t xml:space="preserve">μ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e>
                        </m:d>
                        <m:r>
                          <m:t xml:space="preserve">≤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143000" y="3733920"/>
                <a:ext cx="45720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≤</m:t>
                        </m:r>
                        <m:r>
                          <m:t xml:space="preserve">μ</m:t>
                        </m:r>
                        <m:r>
                          <m:t xml:space="preserve">≤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 flipH="1">
            <a:off x="2362320" y="3276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1905120" y="2819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705360" y="3276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6324120" y="28195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14600" y="47242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1828440" y="4190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1:07:03Z</dcterms:created>
  <dc:creator> </dc:creator>
  <dc:description/>
  <dc:language>en-US</dc:language>
  <cp:lastModifiedBy> </cp:lastModifiedBy>
  <dcterms:modified xsi:type="dcterms:W3CDTF">2005-03-26T22:17:32Z</dcterms:modified>
  <cp:revision>822</cp:revision>
  <dc:subject/>
  <dc:title>Slide 1</dc:title>
</cp:coreProperties>
</file>