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11B-FD29-4915-BD99-BCCC4BA7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A84-CA04-4478-891C-7BB9BDEF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35B-09C1-451F-9B39-152471CA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1CD-B722-4F08-8D0C-CBE889A5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4AA-CE19-4B97-9EDB-890757FD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FA7-9A60-4103-B65C-F080D33C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173-28C4-4961-A80A-FCA51092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674-988C-40BD-9689-3F3480D1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E9D-697C-4A4A-A8B0-81B350E9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3D1-3270-43D0-8EAB-F98168AE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9C5-8B76-4714-883E-FD2486D1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DB6-3085-4F0E-BA60-C44DCB31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F2C6-7C84-47BC-B1EE-7E1D71249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2.xls" TargetMode="External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2.xls" TargetMode="External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bfhm.free.fr/basket.htm" TargetMode="External"/><Relationship Id="rId2" Type="http://schemas.openxmlformats.org/officeDocument/2006/relationships/hyperlink" Target="http://abfhm.free.fr/basket.htm" TargetMode="External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2.xls" TargetMode="External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2.xls" TargetMode="External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2.xls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2.xls" TargetMode="External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2.xls" TargetMode="External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o g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ired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 Confidence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et true value in 95% of repe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 – No questions, under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value cuto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2:    Traditional (and even “legal”) cutoff, called her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-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tof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idence is st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-value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n agreed upon value, but very widely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tion of scientific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value cuto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“results are statistically significant” when this happens, i.e. P-value &lt; 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hange cutoff value 0.05, to some other level, often called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 “alph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your airplane safe to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         often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ong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715000" y="3200400"/>
                <a:ext cx="3697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505320" y="5105520"/>
                <a:ext cx="1904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447920" y="5715000"/>
                <a:ext cx="1295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value cuto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3:    Personal idea about cutof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y 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vs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-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&lt; 0.01:    “quite strong evid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1 &lt; P-value &lt; 0.1:    “weaker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ronger for smaller P-va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 &lt; P-value:     “very weak evidence,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of 0.094 f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quite weak evidence f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only a mild sugges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appens sometim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enough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data for firm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p side:  could also look at “strength of evidence f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:  very weak, since 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-value =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0,000   $2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400800" y="2895480"/>
                <a:ext cx="21510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600200" y="6019920"/>
                <a:ext cx="6764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clusiv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" descr=""/>
          <p:cNvPicPr/>
          <p:nvPr/>
        </p:nvPicPr>
        <p:blipFill>
          <a:blip r:embed="rId1"/>
          <a:srcRect l="34788" t="45579" r="22364" b="15193"/>
          <a:stretch/>
        </p:blipFill>
        <p:spPr>
          <a:xfrm>
            <a:off x="5410080" y="3276720"/>
            <a:ext cx="2359080" cy="2120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6400800" y="5105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7009920" y="51055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381880" y="5028840"/>
            <a:ext cx="3812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781680" y="4419360"/>
            <a:ext cx="1981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2,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-value = 0.9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&gt; ½,   s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all f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s se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actical 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                             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want to gather more dat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prove new menu clearly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more data means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, wh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overcome uncertain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905120" y="2057400"/>
                <a:ext cx="38685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is was done, i.e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=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plac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= 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got the sam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:   4 times the data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½ of the 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n P-va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2,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19920" y="2514600"/>
                <a:ext cx="2131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it get so small, with only ½ the S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= $20,000,        observed $21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value = 0.906                          P-value = 0.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34788" t="43047" r="19879" b="21523"/>
          <a:stretch/>
        </p:blipFill>
        <p:spPr>
          <a:xfrm>
            <a:off x="1981080" y="2286000"/>
            <a:ext cx="2971800" cy="2187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32303" t="43047" r="19879" b="21523"/>
          <a:stretch/>
        </p:blipFill>
        <p:spPr>
          <a:xfrm>
            <a:off x="5334120" y="2209680"/>
            <a:ext cx="1447560" cy="228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3352680" y="449532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352680" y="4495320"/>
            <a:ext cx="2743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962520" y="4495320"/>
            <a:ext cx="1828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791320" y="44953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219320" y="3200400"/>
            <a:ext cx="9144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320040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238880" y="3352320"/>
            <a:ext cx="99072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29040" y="33526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 C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 each of th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box label claims that on average boxes contain 40 oz.  A random sample of 12 boxes shows on average 39 oz., with s = 2.2.  Should we dispute the cla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st food chain currently brings in profits of $20,000 per store, per day.  A new menu is proposed.  Would it be more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Have 10 stores (randomly selected!) try the new menu, let        = average of their daily pro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486400" y="4495680"/>
                <a:ext cx="498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 know from long experience that Farmer A’s pigs average 570 lbs.  A sample of 16 pigs from Farmer B averages 590 lbs, with an SD of 110.  Is it safe to say B’s pigs are heavier on aver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ame as (b) except “lighter on averag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ame as (b) except that B’s average is 630 l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fine the population mean of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mulate 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and 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in terms of m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ive the P-values for both 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a. 0.942, 0.058,  b. 0.234, 0.76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. 0.234, 0.766,  d. 0.015, 0.9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ive a yes-no answer to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a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don’t dispute    b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ot 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ot safe     d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a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ive a gray level answer to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a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moderate evidence agains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no strong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eems to go other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. 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trong evidence, almost very str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00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960000"/>
                </a:solidFill>
                <a:latin typeface="Arial"/>
              </a:rPr>
              <a:t>completely differen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Arial"/>
              </a:rPr>
              <a:t>An amazing movie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bfhm.free.fr/baske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Arial"/>
              </a:rPr>
              <a:t>Thanks to Trent Willia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 Testing Approach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sided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re conventional &amp; is version in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only one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ually relevant, so combi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II:    New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 Hypothesis:   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“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       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Hypothesis: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       opposit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common notation f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“burden of proof”,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might accidentally put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needs strong evidence to prov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858000" y="2133720"/>
                <a:ext cx="6652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+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−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715000" y="2895480"/>
                <a:ext cx="7444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−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+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H="1" flipV="1">
            <a:off x="7696080" y="28191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7467120" y="44953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rd terminology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rm 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lled “rejecting the null hypothe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s of Test:  P-valu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same a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really ju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 a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19320" y="3886200"/>
                <a:ext cx="731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a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oundar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twee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New menu more profitable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 testing set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befor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  Class Example 22, part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48320" y="2209680"/>
                <a:ext cx="3124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≤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72000" y="2895480"/>
                <a:ext cx="31240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057400" y="3656160"/>
                <a:ext cx="6248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W:    6.45,    6.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Interpret with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both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yes-no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gray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Terminolog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ificant at the 5% level”  =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 P-value &lt; 0.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 Statistic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 =   N(0,1) cut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43040" y="1905120"/>
            <a:ext cx="21337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962160" y="1980720"/>
            <a:ext cx="22860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 Tes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sided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 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nclusive, t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bin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Is population me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given value,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gg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maller is 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Can never mak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inite 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e strength of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I:      (not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mong 3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ypothe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Strong evidence new menu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Evidence in inconclu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Strong evidence new menu is w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 Testing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 II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Hypothesis”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“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form: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 Testing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 II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Hypothesis”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“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form: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200400" y="4724280"/>
                <a:ext cx="12952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124080" y="556272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724280" y="4724280"/>
            <a:ext cx="4572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638680"/>
            <a:ext cx="4572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800" y="4343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“     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es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si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“strong evidence of  =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can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 sure ab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ence between         and       + 0.00000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n ha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vincing evidence for     “   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recall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gets “burden of proof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05120" y="1676520"/>
                <a:ext cx="4572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3124080" y="3429000"/>
            <a:ext cx="4572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3429000"/>
            <a:ext cx="4572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600200" y="4876920"/>
                <a:ext cx="3538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of 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w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is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ed valu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nclusive”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tai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848720" y="5181480"/>
                <a:ext cx="3045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33920" y="5257800"/>
                <a:ext cx="914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066680" y="1981080"/>
                <a:ext cx="76186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value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a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clusive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d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2" name="" descr=""/>
          <p:cNvPicPr/>
          <p:nvPr/>
        </p:nvPicPr>
        <p:blipFill>
          <a:blip r:embed="rId1"/>
          <a:srcRect l="32303" t="45579" r="17394" b="21523"/>
          <a:stretch/>
        </p:blipFill>
        <p:spPr>
          <a:xfrm>
            <a:off x="3657600" y="2895480"/>
            <a:ext cx="2778120" cy="178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400800" y="303228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V="1">
            <a:off x="2209680" y="236232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486400" y="32004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5334120"/>
            <a:ext cx="15264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876920" y="47242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715000" y="472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6705720" y="3809520"/>
            <a:ext cx="914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267080" y="3809880"/>
            <a:ext cx="2438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791320" y="3809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ded View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,000              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-value =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0,000          $2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ually exclusive “or”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743200" y="2057400"/>
                <a:ext cx="28083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17640" y="2666880"/>
                <a:ext cx="2870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143000" y="4572000"/>
                <a:ext cx="6400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143000" y="5257800"/>
                <a:ext cx="6929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 flipV="1">
            <a:off x="6781680" y="5638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0988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358128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3581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581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962160" y="3581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3581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410080" y="35812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35812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-value =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NORMDIS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 Class Example 22,  part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.1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 no strong eviden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ther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yes-n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r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ray-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133720" y="2209680"/>
                <a:ext cx="63244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cut:    by sym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ailed Area                               =    2 x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 Class Example 22,  part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rcRect l="34788" t="43047" r="19879" b="17725"/>
          <a:stretch/>
        </p:blipFill>
        <p:spPr>
          <a:xfrm>
            <a:off x="2209680" y="2209680"/>
            <a:ext cx="1737000" cy="170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6" name="" descr=""/>
          <p:cNvPicPr/>
          <p:nvPr/>
        </p:nvPicPr>
        <p:blipFill>
          <a:blip r:embed="rId3"/>
          <a:srcRect l="34788" t="43047" r="19879" b="17725"/>
          <a:stretch/>
        </p:blipFill>
        <p:spPr>
          <a:xfrm>
            <a:off x="5638680" y="2133720"/>
            <a:ext cx="1987560" cy="1689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 flipV="1">
            <a:off x="251460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590920" y="36576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71500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W:    6.46  -  interpret both yes-no &amp; gray-level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(0.0164,  quite strong evidence, OK for non-normal, by Central Limit Theorem)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“paradox” of 2-sided tes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get strange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st food example:  suppose gathered more data, so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 = 2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nd other results ar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sided test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… = 0.0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5 of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https://www.unc.edu/~marron/UNCstat31-2005/Stat31Eg22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ided tes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… = 0.0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419720" y="1523880"/>
                <a:ext cx="28191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419720" y="2119320"/>
                <a:ext cx="28191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 flipV="1">
            <a:off x="838080" y="304776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3733920"/>
            <a:ext cx="175284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19720" y="4114800"/>
                <a:ext cx="2895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419720" y="4724280"/>
                <a:ext cx="28954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decision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st gu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ify strength of the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probability distribution of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hoose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676520" y="5943600"/>
                <a:ext cx="26668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76520" y="4267080"/>
                <a:ext cx="2544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76520" y="5105520"/>
                <a:ext cx="23619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≈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400800" y="1828800"/>
                <a:ext cx="495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943600" y="3657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6781680" y="243792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-no interpre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rong evide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 evide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!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houldn’t bigger imply different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019920" y="2438280"/>
                <a:ext cx="24382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952880" y="3124080"/>
                <a:ext cx="24386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≠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-no tes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ual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be careful with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:  2-sided admi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uncertain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near boundary could m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, as happened h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level view avoids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-sided has stronger evid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:   1-sided vs. 2-sided issues need carefu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oi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dea of             being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this ch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from gray level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581280" y="4495680"/>
                <a:ext cx="6098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343400" y="4495680"/>
            <a:ext cx="22860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 Read problem carefully to distinguish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sided Hypotheses  - 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209680" y="3429000"/>
                <a:ext cx="50292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09680" y="5562720"/>
                <a:ext cx="4724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114800" y="38098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8098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10280" y="56386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5638680"/>
            <a:ext cx="228600" cy="38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raw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many way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traditional appr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st th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They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rden of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: one way of sol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y area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bserve:              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                       ,  but is this conclu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uld this be due to natural sampling 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do we ris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ey from new menu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629400" y="1676520"/>
                <a:ext cx="19810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962520" y="1676520"/>
                <a:ext cx="234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200400" y="2362320"/>
                <a:ext cx="10666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752480" y="2971800"/>
                <a:ext cx="2362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evidence f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-value  = 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952880" y="243828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t</m:t>
                    </m:r>
                    <m:r>
                      <m:t xml:space="preserve">'</m:t>
                    </m:r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95480" y="4952880"/>
                <a:ext cx="10670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76520" y="4952880"/>
                <a:ext cx="1066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9" name="" descr=""/>
          <p:cNvPicPr/>
          <p:nvPr/>
        </p:nvPicPr>
        <p:blipFill>
          <a:blip r:embed="rId1"/>
          <a:srcRect l="31247" t="39712" r="33331" b="31990"/>
          <a:stretch/>
        </p:blipFill>
        <p:spPr>
          <a:xfrm>
            <a:off x="990720" y="2209680"/>
            <a:ext cx="3098520" cy="2336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3048120" y="281952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09680" y="4571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3048120" y="45716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114800" y="50288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276720" y="434304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in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2, Part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About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“small”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ere do we draw the lin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1:    Even unde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st by ch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e values like                     , about 10% of the time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1 in 1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ot “terribly convincing”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a “fluk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ere is the boundary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267080" y="1981080"/>
                <a:ext cx="2133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 </cp:lastModifiedBy>
  <dcterms:modified xsi:type="dcterms:W3CDTF">2005-03-30T03:34:58Z</dcterms:modified>
  <cp:revision>907</cp:revision>
  <dc:subject/>
  <dc:title>Slide 1</dc:title>
</cp:coreProperties>
</file>