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8F5-E0C8-4A90-8141-E168FA53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B82-BB9F-4866-8B52-7537484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D76-E5B7-4BF0-BE96-C87BBE29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E0D-5245-4128-AF06-52D5EA5E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17E-AB48-4A29-AE24-9160C198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58B-B70E-4C83-A382-36670BF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2FA-AA82-4112-8A30-44AB139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BC0-6F06-4BD9-94B2-FB889FA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F88-4008-4B10-A3DA-EBF7AC2C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F28-9FB0-430C-A50D-DA7133B8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B6F-B079-4793-B950-3CC171C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A0E-EEC9-4900-A62D-82DDFD1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7CB-AF3D-4AF3-A9D9-64F12AD5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3.xls" TargetMode="External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3.xls" TargetMode="External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1.xls" TargetMode="External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of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s – small for stro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sided  (strong evidence for “&gt;” or “&lt;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sided   (strong evidence for “differ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6320" indent="-7963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 (P-val &lt; 0.05, or no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5160" indent="-696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level (interpret level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year, your company’s service technicians took an average of 2.6 hours to respond to trouble calls from business customers who had purchased service contracts.  Do this year’s data show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respons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respons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3520" y="4952880"/>
                <a:ext cx="423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05320" y="5486400"/>
                <a:ext cx="206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6095880"/>
                <a:ext cx="2220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setting up hypothe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.31,    6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between Confidence Intervals and Hypothesis 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at Level 0.05            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5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3880" y="4419720"/>
                <a:ext cx="4446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23880" y="5029200"/>
                <a:ext cx="228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12408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523880" y="5791320"/>
                <a:ext cx="3365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86400" y="5791320"/>
                <a:ext cx="2968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rcRect l="32099" t="45130" r="14815" b="18583"/>
          <a:stretch/>
        </p:blipFill>
        <p:spPr>
          <a:xfrm>
            <a:off x="4724280" y="3581280"/>
            <a:ext cx="19656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400800" y="3657600"/>
                <a:ext cx="112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V="1">
            <a:off x="2895480" y="388584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3886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886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436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6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&amp;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at Level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EXCEL’s CONFIDENCE function uses        =  1 – coverage pr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ly care about 2-sided hypos, then could work only with 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not learn about hypo.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724280" y="17524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114800" y="3581280"/>
                <a:ext cx="369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&amp;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6.63,     6.6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. [59.99,63.59]   b. No, 61.3 inside  c. No, 63 in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traps of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how to avoid the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confus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o test a painful diet program, 10,000 people were put on it.  Their average weight loss was 1.7 lbs, with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“significance” by hypothesis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ly 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ifferen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Class Example 23:    Tra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3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=  0.00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ly Statistic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,  e.g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   Not worth painful diet to lose 1.7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  Hypo. testing resolves question: Could observed results be due to chance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1,  e.g:    Is 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is is different from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ults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g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2:    Insignificant results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hing is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:    Didn’t have strong enough data to act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lass 23,    Tra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3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 3:  Try enough tests, and you will find “something” even where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n’t ex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21, Q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w about 5% of CIs don’t c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(using CI – Hypo Test connection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 about 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ests to choose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and claim “strong evidence) e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avoid Trap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Metho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Hypothesis tes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peated tests: use careful adjust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yond scope of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t help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6.69,  6.71,  6.73,  6.75,  6.7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statistician’s view on poli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Current Controversial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rth Carolina State Lo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place Social Security by Individual Retiremen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ebate 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assionat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 (natural for complex and important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ut what is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view Ideas on State Lot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rom our study of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t an obvious choice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mbling is (at least) unsav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igious ob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me like it to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troys some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ate Lotteries, not an obvious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only totally voluntary 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body required, unlike all other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ney often used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od or bad, given state of economy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ighest tax burden on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or enjoy playing 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gher taxes on poor better for society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ndency towards “rich get richer”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about Individual Retirement Pl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in Bene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n average individual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turn greater yie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an government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 can we co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verall we are all better off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nce more total money to go a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ery common mistake in this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6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tice “on average” part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6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uld also think abo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about the averag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tion about average Issu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hould think of population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verage is over thi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cept some to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d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nd expect some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lose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will the percentage of loser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do we do with those who lose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will tha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-s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ee word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write dow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easy to label “more conclus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partial cred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iation about average Issu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lso are averag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verall gains of stock market happen only over this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need $$$ when market i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often will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do we deal with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in concept I hope you carry away from this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is a fundamental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ook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nk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sk questions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Vital to informed citizen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n joke about Var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d you hear about the man who drowned in a lake with average depth 6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n joke about Var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e understood “average”, but no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variation about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ally have such lak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es,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1287" t="28499" r="6257" b="7772"/>
          <a:stretch/>
        </p:blipFill>
        <p:spPr>
          <a:xfrm>
            <a:off x="4191120" y="1752480"/>
            <a:ext cx="45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completely differ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ggestions of such issues (politics, controversy…) for discussion are welcom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iews of hypothesis testing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2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instead of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o assess statistical signific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t way of measuring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ast Food Men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29000" y="2514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429000" y="3200400"/>
                <a:ext cx="275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09680" y="3962520"/>
                <a:ext cx="5486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P{what saw or or m.c.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d’ry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28800" y="1981080"/>
                <a:ext cx="4572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00200" y="2743200"/>
                <a:ext cx="7086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371600" y="3200400"/>
                <a:ext cx="6705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71600" y="5450040"/>
                <a:ext cx="33526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Z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  Class E.g. 22, Par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:   N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57400" y="1447920"/>
                <a:ext cx="3352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45720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41936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90720" y="1980720"/>
            <a:ext cx="21333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 book problem 6.3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of the following situations, a significance test for a population mean,  mu is called for.  State the null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the alternative hypothesis,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 each cas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– Z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nstead of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 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cut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“SDs away from mean $20,00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6.59  , but use NORMDIST, not Tabl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33720" y="1371600"/>
                <a:ext cx="3352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2" name="" descr=""/>
          <p:cNvPicPr/>
          <p:nvPr/>
        </p:nvPicPr>
        <p:blipFill>
          <a:blip r:embed="rId1"/>
          <a:srcRect l="30713" t="43310" r="21263" b="17834"/>
          <a:stretch/>
        </p:blipFill>
        <p:spPr>
          <a:xfrm>
            <a:off x="1905120" y="2819520"/>
            <a:ext cx="1855800" cy="1390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3200400" y="2666880"/>
            <a:ext cx="2286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14600" y="41144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3:         level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instead of reporting P-value, 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xed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ay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ject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find strong evide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-value &lt; 0.05    (more generally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ight recasting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ersion of 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6.53  (careful, already assign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33720" y="1447920"/>
                <a:ext cx="369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0120" y="4267080"/>
                <a:ext cx="3618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 on learning in animals sometimes measure how long it takes a mouse to find its way through mazes.  The mean time is 18 seconds for one particular maze.  A researcher thinks that a loud noise will cause the nice to complete the maz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he measures how long each of 10 mice takes with a noise as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ime to finish with loud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05120" y="5943600"/>
                <a:ext cx="182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34120" y="5878440"/>
                <a:ext cx="1981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inations in a large history class are scaled after grading so that the mean score is 50.  A teaching assistant thinks that his students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verage score than the class as a whole.  His students can be considered as a sample from the population of all students he might teach, so he compares their score with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erage score for all students of this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897200" y="5943600"/>
                <a:ext cx="1841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16480" y="5878440"/>
                <a:ext cx="2017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sus Bureau reports that households spend an average of 31% of their total spending on housing.  A homebuilders association in Cleveland wonde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f the national finding ap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ir area.  They interview a sample of 40 households in the Cleveland metropolitan area to learn what percent of their spending goes toward hou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g. % for housing in Cleve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9480" y="5334120"/>
                <a:ext cx="424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11440" y="5943600"/>
                <a:ext cx="2212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27480" y="5878440"/>
                <a:ext cx="2395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extbook problem     6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each of the following research questions into appropriate  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324480" y="3048120"/>
                <a:ext cx="400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772400" y="3048120"/>
                <a:ext cx="47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6.3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Bureau  data shows that the mean household income in the area served by a shopping mall is $62,500 per year.  A market research firm  questions shoppers at the mall to find out whether the mean household income of mall shoppers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at of the general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verage income of mall sho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20" y="4952880"/>
                <a:ext cx="423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71800" y="5486400"/>
                <a:ext cx="313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&lt;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71800" y="6102360"/>
                <a:ext cx="3200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4-06T16:44:48Z</dcterms:modified>
  <cp:revision>1001</cp:revision>
  <dc:subject/>
  <dc:title>Slide 1</dc:title>
</cp:coreProperties>
</file>