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563-3C31-4DEA-A78C-C7F2012B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47C-E66D-40FA-A250-13781033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5E4-F61E-4E64-9AF0-E851129E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AC7-4947-4C9D-AA4A-8585E3A1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B71-EFD0-494E-A32E-E73D86A4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10D-EECF-4624-9E9A-945E3F30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6F55-AD79-4590-9F3E-85AF28A7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584-EB5E-495D-BAA2-912A61A2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6E4-F085-4080-84F7-BFBDA952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5F9-5BA7-4A34-A7B6-CA5809D9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9C7-7B3B-4AA7-905F-4B8295F9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3BB-2082-4FC0-8B06-B0280E0C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018E-C3B2-43C2-910A-7BEAE17A4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EgTDist.mpg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tat.sc.edu/~west/applets/tdemo1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4.xls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5.xls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5.xls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tern.nyu.edu/~jsimonof/classes/1305/pdf/excelreg.pdf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9.xls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bus.ualberta.ca/eerkut/TMSSdraft3.html" TargetMode="External"/><Relationship Id="rId2" Type="http://schemas.openxmlformats.org/officeDocument/2006/relationships/hyperlink" Target="http://www.bus.ualberta.ca/eerkut/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dterm 2, Tuesday, April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8.5 x 11 sheet of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by re-working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:    HW  5 -  HW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due Thur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Office H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,  April 1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00 – 12:00,  1:30 – 3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up HW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known S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        by      ,    then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distribution nam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distribution with n-1 degrees of freed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362320" y="1371600"/>
                <a:ext cx="30272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057400" y="2362320"/>
                <a:ext cx="281952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362320" y="4267080"/>
                <a:ext cx="4381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886200" y="4267080"/>
                <a:ext cx="2318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867280" y="3809880"/>
                <a:ext cx="114300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 a parameter  (like                 )  that controls “added variability from                   approx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:    Study Densi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degrees of freedo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EgTDist.m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638680" y="2133720"/>
                <a:ext cx="1600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7162920" y="2666880"/>
                <a:ext cx="9903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on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 differences for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ce            approximation is b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difference for  n 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ce            approximation really g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of thumb cutoff:    many 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igible difference for n &gt; 3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off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re inform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71800" y="2903400"/>
                <a:ext cx="9144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590920" y="4038480"/>
                <a:ext cx="9144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Alternate 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ter West (U. So. Carolina) Appl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.sc.edu/~west/applets/tdemo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change for small degrees of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very normal for large degrees of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overlay with Norma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re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set “degrees of freedom”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–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(not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forget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to add to sheet of notes for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7.1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ndardized ver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onger can plug mean and 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EXCEL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ext this was already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need this for Normal table calc’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114800" y="2590920"/>
                <a:ext cx="120024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438280" y="2666880"/>
                <a:ext cx="441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 t  probs, i.e. ar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DIST  &amp;  TINV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these are set u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NORMDIST  &amp; 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Class Example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4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ug i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t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DIST:             cutoff           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INV:                area            cut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ut TDIST is set u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ent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35439" t="43310" r="25988" b="12738"/>
          <a:stretch/>
        </p:blipFill>
        <p:spPr>
          <a:xfrm>
            <a:off x="4724280" y="1143000"/>
            <a:ext cx="2102040" cy="2203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5334120" y="2971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562360" y="2437920"/>
            <a:ext cx="10666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67080" y="2666520"/>
            <a:ext cx="129564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248520" y="2971440"/>
            <a:ext cx="13716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 ta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ug i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t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DIST:                      cutoff           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notes:    -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 explicit in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ckw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Norm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35439" t="43310" r="25988" b="12738"/>
          <a:stretch/>
        </p:blipFill>
        <p:spPr>
          <a:xfrm>
            <a:off x="4724280" y="1143000"/>
            <a:ext cx="2102040" cy="2203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V="1">
            <a:off x="5334120" y="2971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00440" y="2743200"/>
            <a:ext cx="1522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 ta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ug i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t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DIST:                      cutoff           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V:                         area            cut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XCEL note:  this 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ve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35439" t="43310" r="25988" b="12738"/>
          <a:stretch/>
        </p:blipFill>
        <p:spPr>
          <a:xfrm>
            <a:off x="4780080" y="1295280"/>
            <a:ext cx="2020680" cy="2119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6553080" y="2514240"/>
            <a:ext cx="17528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67080" y="2514600"/>
            <a:ext cx="37339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3341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2485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400800" y="22096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91120" y="342864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019920" y="3428640"/>
            <a:ext cx="457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181120" y="220968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atulation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ie Ba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nd the heels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ellent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nd some great basketball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when need to invert the 1-tail TD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ice the 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= A                            Area = 2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35439" t="43310" r="25988" b="12738"/>
          <a:stretch/>
        </p:blipFill>
        <p:spPr>
          <a:xfrm>
            <a:off x="5791320" y="4114800"/>
            <a:ext cx="2357280" cy="218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35439" t="43310" r="25988" b="15286"/>
          <a:stretch/>
        </p:blipFill>
        <p:spPr>
          <a:xfrm>
            <a:off x="1752480" y="4114800"/>
            <a:ext cx="2210040" cy="208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971800" y="3657600"/>
            <a:ext cx="457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324120" y="3657600"/>
            <a:ext cx="17528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620120" y="3657600"/>
            <a:ext cx="457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C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 T ~ t,  with degrees of freed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a)  3    (b)  12    (c)  150    (d)  N(0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T&gt; 1.7}  (0.094, 0.057, 0.046, 0.0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T &lt; 2.14}  (0.939, 0.973, 0.983, 0.98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T &lt; -0.74} (0.256, 0.237, 0.230, 0.2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T &gt; -1.83} (0.918, 0.954, 0.956, 0.96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C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|T| &gt; 1.18} (0.323, 0.261, 0.240, 0.2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|T| &lt; 2.39} (0.903, 0.966, 0.982, 0.9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{|T| &lt; -2.74}  (0, 0, 0,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 so that 0.05 = P{|T| &gt; C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3.18, 2.17, 1.98, 1.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 so that 0.99 = P{|T| &lt; C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5.84, 3.05, 2.61, 2.5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1:      Confidence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INV?     Careful need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ndard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14600" y="2362320"/>
                <a:ext cx="1143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 flipH="1" flipV="1">
            <a:off x="3657600" y="2666520"/>
            <a:ext cx="1905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INV?     Careful need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ndard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paces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62120" y="2286000"/>
                <a:ext cx="78850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rPr>
                            <m:lit/>
                            <m:nor/>
                          </m:rPr>
                          <m:t xml:space="preserve">ver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81080" y="3200400"/>
                <a:ext cx="47246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286000" y="4191120"/>
                <a:ext cx="35812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743200" y="5105520"/>
                <a:ext cx="533412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/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H="1">
            <a:off x="5105160" y="39625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800240" y="3962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600200" y="5105520"/>
                <a:ext cx="46044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w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09480" y="1066680"/>
                <a:ext cx="556272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/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42" name="" descr=""/>
          <p:cNvPicPr/>
          <p:nvPr/>
        </p:nvPicPr>
        <p:blipFill>
          <a:blip r:embed="rId1"/>
          <a:srcRect l="33076" t="43310" r="23626" b="17834"/>
          <a:stretch/>
        </p:blipFill>
        <p:spPr>
          <a:xfrm>
            <a:off x="6095880" y="2057400"/>
            <a:ext cx="2175120" cy="180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666880" y="4114800"/>
                <a:ext cx="39625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N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743200" y="5486400"/>
                <a:ext cx="35812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IN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8153280" y="4419720"/>
                <a:ext cx="3812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 flipH="1" flipV="1">
            <a:off x="7772400" y="37339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724280" y="2666880"/>
                <a:ext cx="385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609588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V(0.05,n-1)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itic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rom connection between CIs and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7.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5,   Par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5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text book problem 7.2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tudy of DDT poisoning, researchers fed several rats a measured amount.  They measured the “absolutely refractory period” required for a nerve to recover after a stimulus.  Measurements on 4 rats g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-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5,   Par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5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text book problem 7.2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s on 4 rats g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    1.7    1.8    1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mean refractory period, and the standard error of the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95% CI for the mean “absolutely refractory period” for all rats of this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wo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at do professional statisticians think about EXC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y are the EXCEL functions so poorly organized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use which type (1- 2- si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to Confidenc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e tra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istic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actic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gnificant           nothing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ugh tests will find things not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leve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257800" y="3809880"/>
                <a:ext cx="26352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114800" y="4267080"/>
                <a:ext cx="2826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rofessional Statisticians Dislike Exc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Very poor handling of nume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Unacceptable?!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Jeff Simonoff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ern.nyu.edu/~jsimonof/classes/1305/pdf/excelreg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simila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lass Example 2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9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roblem 1:    Excel doesn’t keep enough significant digits (relative to other software)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[single precision   vs.   double precisio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roblem 2:    Excel doesn’t warn when troubles are encounter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ll software has this problem some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But is easy to provide warning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mpetent software does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ore discussion of Excel accuracy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us.ualberta.ca/eerkut/TMSSdraft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By Erhan Erkut, University of Alber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us.ualberta.ca/eerku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y are the EXCEL functions so poorly organiz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.g.    NORMDIST uses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DIST uses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2-sid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.g.    NORMINV uses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INV uses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2-sid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ore to com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y are the EXCEL functions so poorly organiz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Looks like programmer was handed a statistics text, and told “turn these into functions”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roblem:     organization was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goo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for table look ups, but looks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clunk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no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Bell AT Microsoft heard about “complaints from statisticians on EXC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ecided to “try to fix the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ntacted Jeff Simonoff about nume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sked Jeff to work with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Jeff refused, doesn’t like or use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Jeff told Colin about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ask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agreed about numerical problems, but said I had bigger objections about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asked me to write thes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said I was too busy, 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would teach Stat 31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 offered to send an email, everytime I noted an organizational in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ver the semester, I sent around 30 emails about all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agreed with each of the points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approached the statistical people at 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y agreed that organization could have been don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4:    P-value shows on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lf of the decision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 Illust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ue   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Result:       Choose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91320" y="4267080"/>
          <a:ext cx="2971800" cy="1889280"/>
        </p:xfrm>
        <a:graphic>
          <a:graphicData uri="http://schemas.openxmlformats.org/drawingml/2006/table">
            <a:tbl>
              <a:tblPr/>
              <a:tblGrid>
                <a:gridCol w="1485720"/>
                <a:gridCol w="1486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II 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I 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un personal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But for “backwards compatibility” reasons, refused to change an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olin apologetically archived all my email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ow much should we wor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rganization is a pain, but you can liv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OK to complain when you feel like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Usuall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(except for weird rounding) numerical issues don’t arise, but need to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be aware of potenti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4:    Both sides of decision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mall P-val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mall Type I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ype II error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ms part of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stic Answer:  Don’t care because have put burden of proof o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4:    What about Type II error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r Answer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es ma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st sensi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sues, 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st 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how large a sample size is needed for a gi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st 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eated abov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4:    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Type I Error}   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vel of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- P{Type I Error}   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f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– P{Type II Error}   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wer of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– P{Type II Error}   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. 7.1:  Deeper look at I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 “inference”  =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Is and Hypo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ssue:     In sampling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     is unknown, so replace with an estimate,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, should be “OK”, but what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arge is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larg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124080" y="2666880"/>
                <a:ext cx="32004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057400" y="3352680"/>
                <a:ext cx="3618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352680" y="3886200"/>
                <a:ext cx="3096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known S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  Account for “extra variability in the             approxim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:    Assu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mound shaped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averages generally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w mu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cus on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133720" y="2057400"/>
                <a:ext cx="11746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58000" y="2590920"/>
                <a:ext cx="20988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Marron</cp:lastModifiedBy>
  <dcterms:modified xsi:type="dcterms:W3CDTF">2005-04-05T18:26:06Z</dcterms:modified>
  <cp:revision>1079</cp:revision>
  <dc:subject/>
  <dc:title>Slide 1</dc:title>
</cp:coreProperties>
</file>