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A55F-6E06-4E2D-BA7C-1058FC632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B7F0-35CD-4A84-BD21-CA7F79725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4FF4-7D07-484F-AE17-A0F29FCF5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18FB-82BD-482D-9C4D-604D6796F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AF01-4240-4B4F-B1AC-3BF510B8C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2043-744E-4ABA-821E-3C0B80434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504D-F011-4C44-97F7-229085EE3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760D-DA9F-41D1-9114-7470B2B2E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2DF6-2C9E-4380-AABB-4CF4E26E6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67BF-CB40-45B8-B8DB-E56720B73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A08E-24FD-45AC-A8D3-3F0FFF65A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3960-9949-44C5-8108-D8E20A30C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8FC9A-776A-4A7C-BD9F-8F22B7BC67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s://www.unc.edu/~marron/UNCstat31-2005/Stat31Eg26.xls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Stat31Movie-IceScraping.wmv" TargetMode="Externa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s://www.unc.edu/~marron/UNCstat31-2005/Stat31Eg40.xls" TargetMode="Externa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s://www.unc.edu/~marron/UNCstat31-2005/Stat31Eg40.xls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www.unc.edu/~marron/UNCstat31-2005/Stat31Eg26.xls" TargetMode="External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 31,  Section 1, Last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unknown     ,   replace with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 with TDIST &amp; TINV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fferent!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ired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ar to above, work with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erence for Propor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s &amp; Propor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s:   Best Guess &amp; Conserv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4038480" y="2133720"/>
                <a:ext cx="38268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6781680" y="2133720"/>
                <a:ext cx="33048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Size for Propor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   conservative version no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uch bigg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si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44 ~ 0.5  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ap is sm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44      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90720" y="3581280"/>
            <a:ext cx="3200400" cy="1828800"/>
          </a:xfrm>
          <a:custGeom>
            <a:avLst/>
            <a:gdLst/>
            <a:ahLst/>
            <a:rect l="l" t="t" r="r" b="b"/>
            <a:pathLst>
              <a:path w="2016" h="1152">
                <a:moveTo>
                  <a:pt x="0" y="1152"/>
                </a:moveTo>
                <a:cubicBezTo>
                  <a:pt x="360" y="576"/>
                  <a:pt x="720" y="0"/>
                  <a:pt x="1056" y="0"/>
                </a:cubicBezTo>
                <a:cubicBezTo>
                  <a:pt x="1392" y="0"/>
                  <a:pt x="1848" y="936"/>
                  <a:pt x="2016" y="1152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1295280" y="3428640"/>
            <a:ext cx="0" cy="19810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4952880"/>
            <a:ext cx="36576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666880" y="3581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1066320" y="3581280"/>
            <a:ext cx="358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438280" y="36576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1066320" y="3657600"/>
            <a:ext cx="358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209320" y="510552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666880" y="5105520"/>
            <a:ext cx="2286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 flipV="1">
            <a:off x="4724280" y="365724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Size for Propor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W:    8.23,        8.25,     give both “best guess” and “conservative” ans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. Tests for Propor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3:    Hypothesis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 Setup: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3657600" y="2438280"/>
                <a:ext cx="1752480" cy="16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/>
                          </m:mr>
                          <m:mr>
                            <m:e/>
                          </m:mr>
                          <m:mr>
                            <m:e/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3886200" y="4495680"/>
                <a:ext cx="1579680" cy="170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/>
                          </m:mr>
                          <m:mr>
                            <m:e/>
                          </m:mr>
                          <m:mr>
                            <m:e/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562720" y="3124080"/>
            <a:ext cx="228600" cy="304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638680" y="5257800"/>
            <a:ext cx="228600" cy="304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5943240" y="3124080"/>
            <a:ext cx="6094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. Tests for Propor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ss strength of evidence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 = P{what saw or m.c. | B’dry}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P{observed      or m.c. | p =     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:  sd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924680" y="3581280"/>
            <a:ext cx="228600" cy="304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3505320" y="4952880"/>
                <a:ext cx="312408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p</m:t>
                                </m:r>
                              </m:e>
                            </m:d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5105520" y="3429000"/>
                <a:ext cx="36180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. Tests for Propor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:  sd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:  (different from above “best guess”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“conservative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ion is done base 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943600" y="5105520"/>
            <a:ext cx="228600" cy="304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3581280" y="1295280"/>
                <a:ext cx="312444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p</m:t>
                                </m:r>
                              </m:e>
                            </m:d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5010120" y="5095800"/>
                <a:ext cx="70488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. Tests for Propor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Old Text Problem 8.16     (now  8.1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500 respondents in a Christmas tree marketing survey, 44% had no children at home and 56% had at least one child at home.  The corresponding figures from the most recent census are 48% with no children, and 52% with at least one.  Test the null hypothesis that the telephone survey has a probability of selecting a household with no children that is equal to the value of the last census.  Give a Z-statistic and P-val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. Tests for Propor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Old Text Problem 8.16     (now  8.1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 p = % with no child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worth writing dow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1295280" y="3962520"/>
                <a:ext cx="287496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262160" y="4809960"/>
                <a:ext cx="296388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p</m:t>
                    </m:r>
                    <m:r>
                      <m:t xml:space="preserve">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8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. Tests for Propor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ed                  ,  from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066680" y="5486400"/>
                <a:ext cx="357984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1066680" y="3809880"/>
                <a:ext cx="609624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4</m:t>
                        </m:r>
                        <m:r>
                          <m:t xml:space="preserve">|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1066680" y="2971800"/>
                <a:ext cx="672336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  <m:r>
                          <m:t xml:space="preserve"> </m:t>
                        </m:r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|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5791320" y="1523880"/>
                <a:ext cx="16984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438280" y="1523880"/>
                <a:ext cx="190188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4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38" name="" descr=""/>
          <p:cNvPicPr/>
          <p:nvPr/>
        </p:nvPicPr>
        <p:blipFill>
          <a:blip r:embed="rId1"/>
          <a:srcRect l="30713" t="45858" r="18901" b="20381"/>
          <a:stretch/>
        </p:blipFill>
        <p:spPr>
          <a:xfrm>
            <a:off x="6172200" y="4419720"/>
            <a:ext cx="205740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. Tests for Propor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2 * NORMDIST(0.44,0.48,sqrt(0.48*(1-0.48)/500),tr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Class Example 26, Part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unc.edu/~marron/UNCstat31-2005/Stat31Eg26.x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0.07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-No:    no strong ev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y-level:    somewhat strong ev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2209680" y="1447920"/>
                <a:ext cx="357984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. Tests for Propor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79632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-score ver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632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 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632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632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632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632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632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Z-score is:                      = 1.7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3581280" y="1981080"/>
                <a:ext cx="309240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2971800" y="2666880"/>
                <a:ext cx="5562720" cy="195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  <m:r>
                                  <m:t xml:space="preserve">−</m:t>
                                </m:r>
                                <m:r>
                                  <m:t xml:space="preserve">p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f>
                                      <m:num>
                                        <m:r>
                                          <m:t xml:space="preserve">p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1</m:t>
                                            </m:r>
                                            <m:r>
                                              <m:t xml:space="preserve">−</m:t>
                                            </m:r>
                                            <m:r>
                                              <m:t xml:space="preserve">p</m:t>
                                            </m:r>
                                          </m:e>
                                        </m:d>
                                      </m:num>
                                      <m:den>
                                        <m:r>
                                          <m:t xml:space="preserve">n</m:t>
                                        </m:r>
                                      </m:den>
                                    </m:f>
                                  </m:e>
                                </m:rad>
                              </m:den>
                            </m:f>
                          </m:e>
                        </m:d>
                        <m:r>
                          <m:t xml:space="preserve">&gt;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f>
                                  <m:num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48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0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48</m:t>
                                        </m:r>
                                      </m:e>
                                    </m:d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500</m:t>
                                    </m:r>
                                  </m:den>
                                </m:f>
                              </m:e>
                            </m:ra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5867280" y="3048120"/>
            <a:ext cx="2438640" cy="17524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6476760" y="4800600"/>
            <a:ext cx="685800" cy="9144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erence for propor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2:    Choice of Sample Siz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 Given the margin of error    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sample size       to mak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’n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Dist’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5                                                           0.9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6934320" y="6019920"/>
                <a:ext cx="228600" cy="1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3048120" y="3124080"/>
                <a:ext cx="411480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5</m:t>
                    </m:r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  <m:r>
                          <m:t xml:space="preserve">&lt;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6400800" y="2057400"/>
                <a:ext cx="380880" cy="2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2895480" y="6095880"/>
                <a:ext cx="228600" cy="1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4495680" y="2590920"/>
                <a:ext cx="36540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828800" y="6095880"/>
                <a:ext cx="380880" cy="1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3" name="" descr=""/>
          <p:cNvPicPr/>
          <p:nvPr/>
        </p:nvPicPr>
        <p:blipFill>
          <a:blip r:embed="rId1"/>
          <a:srcRect l="30713" t="45858" r="18901" b="15286"/>
          <a:stretch/>
        </p:blipFill>
        <p:spPr>
          <a:xfrm>
            <a:off x="1600200" y="4724280"/>
            <a:ext cx="1949400" cy="1393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rcRect l="30713" t="45858" r="18901" b="15286"/>
          <a:stretch/>
        </p:blipFill>
        <p:spPr>
          <a:xfrm>
            <a:off x="5715000" y="4648320"/>
            <a:ext cx="1949400" cy="1393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533520" y="4419720"/>
                <a:ext cx="61884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6553080" y="4343400"/>
                <a:ext cx="9144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p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p</m:t>
                                    </m:r>
                                  </m:e>
                                </m:d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1981080" y="457200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47920" y="5257800"/>
            <a:ext cx="11430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7009920" y="47242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791320" y="525780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. Tests for Propor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 also 1-sided ver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-no: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rong ev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y Level:    stronger ev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W:   8.19,    8.21,     interpret from both yes-no and gray-level view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bdff"/>
                </a:solidFill>
                <a:latin typeface="Arial"/>
              </a:rPr>
              <a:t>And now for something</a:t>
            </a:r>
            <a:br>
              <a:rPr sz="4000"/>
            </a:br>
            <a:r>
              <a:rPr b="0" lang="en-US" sz="4000" spc="-1" strike="noStrike">
                <a:solidFill>
                  <a:srgbClr val="ffbdff"/>
                </a:solidFill>
                <a:latin typeface="Arial"/>
              </a:rPr>
              <a:t>completely different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other fun movi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dff"/>
                </a:solidFill>
                <a:latin typeface="Arial"/>
              </a:rPr>
              <a:t>Thanks to Trent William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9: Two-Way T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ide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de up populations 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wo w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1:    Age &amp; S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2:    Education &amp; In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 Major Ques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division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l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the division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ar idea 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pe’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prob.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istical Infere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-Way T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Example 40,  Textbook Problem 9.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et Researchers know that background music can influence mood and purchasing behavior.  A supermarket compared three treatments: No music, French accordion music and Italian string music.  Under each condition, the researchers recorded the numbers of bottles of French, Italian and other wine purshased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-Way T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Example 40,  Textbook Problem 9.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 is the two way table that summarizes the da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the type of wine purchased, and the background music rela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295280" y="2819520"/>
          <a:ext cx="6782040" cy="2278080"/>
        </p:xfrm>
        <a:graphic>
          <a:graphicData uri="http://schemas.openxmlformats.org/drawingml/2006/table">
            <a:tbl>
              <a:tblPr/>
              <a:tblGrid>
                <a:gridCol w="1355760"/>
                <a:gridCol w="1357560"/>
                <a:gridCol w="1355400"/>
                <a:gridCol w="1357560"/>
                <a:gridCol w="1355760"/>
              </a:tblGrid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Mus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Wine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N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Fren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Itali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Fren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Itali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Oth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-Way T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Example 40:          Vis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s how  counts are broken down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ic type                 wine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2590920" y="1981080"/>
          <a:ext cx="4038480" cy="2779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981080"/>
                    <a:ext cx="4038480" cy="277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 flipV="1">
            <a:off x="2743200" y="3504960"/>
            <a:ext cx="6858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2743200" y="4571640"/>
            <a:ext cx="12952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 flipV="1">
            <a:off x="5943240" y="4266720"/>
            <a:ext cx="6858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-Way T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g Ques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re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lationshi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allest b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nch Win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ench Mu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alian Win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talian Mu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Win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o Mu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s the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relation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4800600" y="1143000"/>
          <a:ext cx="4038480" cy="2779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143000"/>
                    <a:ext cx="4038480" cy="27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 flipV="1">
            <a:off x="3809880" y="2133360"/>
            <a:ext cx="3048120" cy="20574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4876920" y="1904760"/>
            <a:ext cx="2590560" cy="28191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6172200" y="1752120"/>
            <a:ext cx="533520" cy="35053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-Way T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 Direc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we make this preci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ld it happe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ust by cha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ly: how likely to be a chance effec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is i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tatistically signific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e. music and wine purcha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-Way T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Example 40, a look under the hoo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Analysis, Part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unc.edu/~marron/UNCstat31-2005/Stat31Eg40.x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data from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appeared as colum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d to re-arr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ter way to do this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de graphic with chart wiz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-Way T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HW:    Make 2-way bar graphs, 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  <a:ea typeface="굴림"/>
              </a:rPr>
              <a:t>and discuss relationships between the divisions, 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 for the data 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9.1     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  <a:ea typeface="굴림"/>
              </a:rPr>
              <a:t> (younger people tend to be better educated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9.13       (you try these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9.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Size for Propor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 find       so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:    in both cases, can’t “get a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:    Standardiz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 put on N(0,1) sc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2133720" y="1600200"/>
                <a:ext cx="30780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3962520" y="1600200"/>
                <a:ext cx="480060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7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ORMDIST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,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p</m:t>
                                </m:r>
                              </m:e>
                            </m:d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rad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2286000" y="2749680"/>
                <a:ext cx="464832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ORMINV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75</m:t>
                        </m:r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p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p</m:t>
                                    </m:r>
                                  </m:e>
                                </m:d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7620120" y="3733920"/>
                <a:ext cx="26496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-Way T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lternate vie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lace counts by proportions (or %-ag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Example 40 (Wine &amp; Music), Part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unc.edu/~marron/UNCstat31-2005/Stat31Eg40.x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be more interpre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bac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al difference (just rescal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erence for propor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    Find         so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(0,1) dist’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7238880" y="5867280"/>
                <a:ext cx="83844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m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p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p</m:t>
                                    </m:r>
                                  </m:e>
                                </m:d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371600" y="1676520"/>
                <a:ext cx="7391520" cy="17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5</m:t>
                    </m:r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  <m:r>
                          <m:t xml:space="preserve">&lt;</m:t>
                        </m:r>
                        <m:r>
                          <m:t xml:space="preserve">m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  <m:r>
                                  <m:t xml:space="preserve">−</m:t>
                                </m:r>
                                <m:r>
                                  <m:t xml:space="preserve">p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f>
                                      <m:num>
                                        <m:r>
                                          <m:t xml:space="preserve">p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1</m:t>
                                            </m:r>
                                            <m:r>
                                              <m:t xml:space="preserve">−</m:t>
                                            </m:r>
                                            <m:r>
                                              <m:t xml:space="preserve">p</m:t>
                                            </m:r>
                                          </m:e>
                                        </m:d>
                                      </m:num>
                                      <m:den>
                                        <m:r>
                                          <m:t xml:space="preserve">n</m:t>
                                        </m:r>
                                      </m:den>
                                    </m:f>
                                  </m:e>
                                </m:rad>
                              </m:den>
                            </m:f>
                          </m:e>
                        </m:d>
                        <m:r>
                          <m:t xml:space="preserve">&lt;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f>
                                  <m:num>
                                    <m:r>
                                      <m:t xml:space="preserve">p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p</m:t>
                                        </m:r>
                                      </m:e>
                                    </m:d>
                                  </m:num>
                                  <m:den>
                                    <m:r>
                                      <m:t xml:space="preserve">n</m:t>
                                    </m:r>
                                  </m:den>
                                </m:f>
                              </m:e>
                            </m:ra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2743200" y="1447920"/>
                <a:ext cx="36504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2" name="" descr=""/>
          <p:cNvPicPr/>
          <p:nvPr/>
        </p:nvPicPr>
        <p:blipFill>
          <a:blip r:embed="rId1"/>
          <a:srcRect l="30713" t="45858" r="18901" b="15286"/>
          <a:stretch/>
        </p:blipFill>
        <p:spPr>
          <a:xfrm>
            <a:off x="6248520" y="4495680"/>
            <a:ext cx="1949400" cy="1393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2057400" y="3733920"/>
                <a:ext cx="2971800" cy="19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  <m:r>
                          <m:t xml:space="preserve">&lt;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f>
                                  <m:num>
                                    <m:r>
                                      <m:t xml:space="preserve">p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p</m:t>
                                        </m:r>
                                      </m:e>
                                    </m:d>
                                  </m:num>
                                  <m:den>
                                    <m:r>
                                      <m:t xml:space="preserve">n</m:t>
                                    </m:r>
                                  </m:den>
                                </m:f>
                              </m:e>
                            </m:ra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6781680" y="44197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248520" y="4876920"/>
            <a:ext cx="10666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Size for Propor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 find       so that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olve to ge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:    don’t know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133720" y="1600200"/>
                <a:ext cx="30780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4114800" y="1447920"/>
                <a:ext cx="464832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m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p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p</m:t>
                                    </m:r>
                                  </m:e>
                                </m:d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ORMIN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75</m:t>
                    </m:r>
                    <m:r>
                      <m:t xml:space="preserve">,</m:t>
                    </m:r>
                    <m:r>
                      <m:t xml:space="preserve">0,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4038480" y="2971800"/>
                <a:ext cx="47944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n</m:t>
                        </m:r>
                      </m:e>
                    </m:ra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ORMINV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75</m:t>
                            </m:r>
                            <m:r>
                              <m:t xml:space="preserve">,</m:t>
                            </m:r>
                            <m:r>
                              <m:t xml:space="preserve">0,1</m:t>
                            </m:r>
                          </m:e>
                        </m:d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p</m:t>
                                </m:r>
                              </m:e>
                            </m:d>
                          </m:e>
                        </m:rad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4776840" y="5257800"/>
                <a:ext cx="277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1676520" y="3962520"/>
                <a:ext cx="519588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NORMINV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975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0,1</m:t>
                                    </m:r>
                                  </m:e>
                                </m:d>
                              </m:num>
                              <m:den>
                                <m:r>
                                  <m:t xml:space="preserve">m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Size for Propor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 1: 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est Gu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      fro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lier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ious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or Idea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2286000" y="2362320"/>
                <a:ext cx="36504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Size for Propor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 2: 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nserv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“safe” to u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3200400" y="2438280"/>
                <a:ext cx="289548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p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</m:lim>
                    </m:limLow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3200400" y="4267080"/>
                <a:ext cx="521028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NORMINV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975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0,1</m:t>
                                    </m:r>
                                  </m:e>
                                </m:d>
                              </m:num>
                              <m:den>
                                <m:r>
                                  <m:t xml:space="preserve">m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Size for Propor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Old textbook problem  8.14   (now 8.1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opinion poll found that 44% of adults agree that parents should be given vouchers for education at a school of their choice.  The result was based on a small sample.  How large an SRS is required to obtain a margin of error of     +- 0.03, in a 95% C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Size for Propor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Old textbook problem  8.14   (now 8.1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Class Example 26,    Part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unc.edu/~marron/UNCstat31-2005/Stat31Eg26.x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3T01:07:03Z</dcterms:created>
  <dc:creator> </dc:creator>
  <dc:description/>
  <dc:language>en-US</dc:language>
  <cp:lastModifiedBy>Marron</cp:lastModifiedBy>
  <dcterms:modified xsi:type="dcterms:W3CDTF">2005-04-14T18:08:09Z</dcterms:modified>
  <cp:revision>1233</cp:revision>
  <dc:subject/>
  <dc:title>Slide 1</dc:title>
</cp:coreProperties>
</file>