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51C-5939-4D23-8202-88EDFFFE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0B1-8C12-408B-9D58-DE2F09FA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DCB-C139-44FB-98F0-992409F3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01F-2CB0-4488-9174-D75B0BB3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6C6-D0A1-4448-AF51-B2CE5CE2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229-94C9-4248-A200-D6CB3B41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BEC-CBFB-48A8-966F-319D3794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23F-F541-419E-A219-94A81C37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1AD-72C9-4932-BB79-4D18F7E1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7BD-102C-44A5-A036-43277228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F54-56F6-4512-84A7-93992AF4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66D-82A7-40F7-9227-1E209EC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2D02-60AD-4E65-8B9C-C55ECE47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40.xls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40.xls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40.xls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chisqdemo.html" TargetMode="External"/><Relationship Id="rId2" Type="http://schemas.openxmlformats.org/officeDocument/2006/relationships/hyperlink" Target="http://www.stat.sc.edu/~west/applets/chisqdemo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40.xls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lstu.edu/~gcramsey/Gallery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th.sfu.ca/~cschwarz/Stat-301/Handouts/node49.html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math.csusb.edu/faculty/stanton/m262/regress/regress.html" TargetMode="External"/><Relationship Id="rId2" Type="http://schemas.openxmlformats.org/officeDocument/2006/relationships/hyperlink" Target="http://www.ruf.rice.edu/~lane/stat_sim/reg_by_eye/index.html" TargetMode="External"/><Relationship Id="rId3" Type="http://schemas.openxmlformats.org/officeDocument/2006/relationships/hyperlink" Target="http://www.ruf.rice.edu/~lane/stat_sim/reg_by_eye/index.html" TargetMode="External"/><Relationship Id="rId4" Type="http://schemas.openxmlformats.org/officeDocument/2006/relationships/hyperlink" Target="http://www.ruf.rice.edu/~lane/stat_sim/comp_r/index.html" TargetMode="External"/><Relationship Id="rId5" Type="http://schemas.openxmlformats.org/officeDocument/2006/relationships/hyperlink" Target="http://www.ruf.rice.edu/~lane/stat_sim/comp_r/index.html" TargetMode="External"/><Relationship Id="rId6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4.xls" TargetMode="External"/><Relationship Id="rId2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40.xls" TargetMode="External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I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good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roved (Congra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more room for improve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only about half of total 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proportions (or count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s along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s along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to write at margins of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na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independent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nice to put total at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Cou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40 (Wine &amp; Music)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4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s ar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 inte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ines sold best (French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 music sold most wi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on’t te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ol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n’t s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e music &amp; wine is be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t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lls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marg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defini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=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analog of P{A|B}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equivalent condi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971800" y="3809880"/>
                <a:ext cx="512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∧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505320" y="5486400"/>
                <a:ext cx="3962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analog of P{A|B}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condition for independenc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or counts, look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Prop’n = Row Marg’l Prop’n x Col’n Marg’l Prop’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Entry = Product of Marg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487600" y="3200400"/>
                <a:ext cx="4322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×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e Product of Marginal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40 (Wine &amp; Music), Par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4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sam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arg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ch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&amp; 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l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800600" y="3429000"/>
          <a:ext cx="4038480" cy="278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429000"/>
                    <a:ext cx="403848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model appears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s 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uld difference be simply explained by natural 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“distance between t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 Square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known probability distribution when table is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significance using P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s: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dep. 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 = P{what saw or m.c. | Indep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statistic:   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Counts (raw data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Counts (under indep.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for only random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or significant departure from ind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04000" y="2057400"/>
                <a:ext cx="816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315200" y="2666880"/>
                <a:ext cx="7239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38280" y="3352680"/>
                <a:ext cx="38102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ells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b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x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statistic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40, Part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4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erm by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8.3    “big”  or  “smal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76720" y="1981080"/>
                <a:ext cx="38098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ells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b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x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tribution of the 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 Squared”   (another Greek letter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: “degrees of freed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milar to T dis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DIST  (given cutoff, find area = prob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INV    (given prob = area, find cut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772400" y="1905120"/>
                <a:ext cx="477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I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otal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45 MT I + 0.45 MTII + 0.1 HW Av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1 – 100 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2 – 91  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3 – 82  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4 – 82   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64   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       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t from Webster West (U. So. Carol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tat.sc.edu/~west/applets/chisqdem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kewe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Gaussian for more d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95480" y="1295280"/>
                <a:ext cx="478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est of independence,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(#rows – 1) x (#cols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ine and Mu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f. = (3 – 1) x (3 – 1)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ine and Mu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Observed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.c. | Indep.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8.3 of m.c. | Indep.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= 18.3 | d.f. = 4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ee Class Example 40, Pa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4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23626" t="39712" r="18901" b="11031"/>
          <a:stretch/>
        </p:blipFill>
        <p:spPr>
          <a:xfrm>
            <a:off x="5646600" y="3436920"/>
            <a:ext cx="2224080" cy="204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24080" y="3962520"/>
            <a:ext cx="3886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391520" y="46479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ine and Mu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  Very strong evidence against independence, conclude music has a statistically significant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-Level:    Also very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shortc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s the (obs-exp)^2 / exp calcula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computes d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P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A statistics joke,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4"/>
                </a:solidFill>
                <a:latin typeface="Arial"/>
              </a:rPr>
              <a:t>GARY C. RAMSEYER'S INTERNET GALLERY OF STATISTICS JO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lstu.edu/~gcramsey/Gall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A somewhat advanced society has figured how to package basic knowledge in pil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A student, needing some learning, goes to the pharmacy and asks what kind of knowledge pills are available.</a:t>
            </a:r>
            <a:r>
              <a:rPr b="0" lang="en-US" sz="2800" spc="-1" strike="noStrike">
                <a:solidFill>
                  <a:srgbClr val="0064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pharmacist says "Here's a pill for English literature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student takes the pill and swallows it and has new knowledge about English literat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4"/>
                </a:solidFill>
                <a:latin typeface="Arial"/>
              </a:rPr>
              <a:t>"</a:t>
            </a: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What else do you have?" asks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"Well, I have pills for art history, biology, and world history, "replies the pharmac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student asks for these, and swallows them and has new knowledge about those subje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I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19320" y="1584360"/>
          <a:ext cx="6248160" cy="42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84360"/>
                    <a:ext cx="624816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n the student asks, "Do you have a pill for statistics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pharmacist says "Wait just a moment", and goes back into the storeroom and brings back a whopper of a pill that is about twice the size of a jawbreaker and plunks it on the coun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"I have to take that huge pill for statistics?" inquires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464"/>
                </a:solidFill>
                <a:latin typeface="Arial"/>
              </a:rPr>
              <a:t>And Now for Something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The pharmacist understandingly nods his head and repl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64"/>
                </a:solidFill>
                <a:latin typeface="Arial"/>
              </a:rPr>
              <a:t>"Well, you know statistics always was a little hard to swallow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tion about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son’s Parad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ion into tabl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 be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.sfu.ca/~cschwarz/Stat-301/Handouts/node4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Admission rates to professional programs, look for sex bia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ssions to Business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Males ad’ted = 480 / (480 + 120) *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Females ad’ted = 180 / (180 + 20)*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for female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90920" y="1905120"/>
          <a:ext cx="4114800" cy="1552320"/>
        </p:xfrm>
        <a:graphic>
          <a:graphicData uri="http://schemas.openxmlformats.org/drawingml/2006/table">
            <a:tbl>
              <a:tblPr/>
              <a:tblGrid>
                <a:gridCol w="1676520"/>
                <a:gridCol w="129528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ssions to Law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Males ad’ted = 10 / (10 + 90) *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Females ad’ted = 100 / (100+200)*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.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for female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90920" y="1905120"/>
          <a:ext cx="4114800" cy="1552320"/>
        </p:xfrm>
        <a:graphic>
          <a:graphicData uri="http://schemas.openxmlformats.org/drawingml/2006/table">
            <a:tbl>
              <a:tblPr/>
              <a:tblGrid>
                <a:gridCol w="1676520"/>
                <a:gridCol w="129528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Admi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Males ad’ted = 490 / (490 + 210) *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Females ad’ted = 280 / (280+210)*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90920" y="1905120"/>
          <a:ext cx="4114800" cy="1552320"/>
        </p:xfrm>
        <a:graphic>
          <a:graphicData uri="http://schemas.openxmlformats.org/drawingml/2006/table">
            <a:tbl>
              <a:tblPr/>
              <a:tblGrid>
                <a:gridCol w="1676520"/>
                <a:gridCol w="129528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 rate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gher for 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males and also m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depend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ve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usiness (male applicants dominant), easier to get in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aw (female applicants dominant), much harder to get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 rate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gher for 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males and also m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depend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ve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usiness (male applicants dominant), easier to ge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60 / 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aw (female applicants dominant), much harder to get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0 / 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y care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e: may not be aware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g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been don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erminology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rking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ide in aggreg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used for chea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son’s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for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wa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Populations in 2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with 2-way bar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counts &amp; proportions (%-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ing Lines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ud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ciated with fi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When is slope statistically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Scatter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ata 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by pl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29000" y="1371600"/>
          <a:ext cx="54100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410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 flipV="1">
            <a:off x="1371600" y="2971800"/>
            <a:ext cx="4800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371600" y="3733560"/>
            <a:ext cx="6248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449568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447920" y="5181480"/>
            <a:ext cx="5486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a line to data in a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“basic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model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“prediction of new valu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                               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y intercept                          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m &amp; b gives a “family of lines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by “parameters” m &amp; b (or a &amp;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9480" y="30477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19320" y="304776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41148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62720" y="4419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638680" y="44197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162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7162560" y="34290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catterplot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a &amp; b  (i.e. choose a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best fit the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19520" y="2971800"/>
                <a:ext cx="3809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               ,    “indexed”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“residuals”  =  “data Y” – “Y on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hoose            to make these “sm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895480" y="1523880"/>
                <a:ext cx="1676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495680" y="4876920"/>
                <a:ext cx="2286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620120" y="1555920"/>
                <a:ext cx="10666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581280" y="5614920"/>
                <a:ext cx="1067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.csusb.edu/faculty/stanton/m262/regress/regres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JAVA Demos, by David Lane at Rice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ruf.rice.edu/~lane/stat_sim/reg_by_ey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ruf.rice.edu/~lane/stat_sim/comp_r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iduals  &gt; 0,  by squ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:     adjust           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“Sum of Squared Erro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105520" y="2971800"/>
                <a:ext cx="1143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19520" y="4191120"/>
                <a:ext cx="441936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putes y-intercept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 (computes slope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Example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4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W:  10.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devel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s and Confidence In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lope &amp; intercept parameters, a &amp;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udy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Error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labelled C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mistaken visual i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how wrong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show right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 Class Example 4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4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 – Wro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llest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ench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alian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800600" y="1143000"/>
          <a:ext cx="4038480" cy="277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3848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V="1">
            <a:off x="3809880" y="2133360"/>
            <a:ext cx="3048120" cy="2057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876920" y="1904760"/>
            <a:ext cx="2590560" cy="2819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172200" y="1752120"/>
            <a:ext cx="533520" cy="3505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 – Corr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55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llest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ench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alian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91120" y="1128600"/>
          <a:ext cx="4419360" cy="304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28600"/>
                    <a:ext cx="441936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 flipV="1">
            <a:off x="3809880" y="2133720"/>
            <a:ext cx="2667240" cy="228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72200" y="1828800"/>
            <a:ext cx="76320" cy="3657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76920" y="2819520"/>
            <a:ext cx="2286000" cy="2133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robability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=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Chances of A, when 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r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when B i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version of this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 in 2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=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- proportions analog of the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of P{A}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s of factor A, “not knowing B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“marginal propor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of P{A|B}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4-19T16:05:39Z</dcterms:modified>
  <cp:revision>1279</cp:revision>
  <dc:subject/>
  <dc:title>Slide 1</dc:title>
</cp:coreProperties>
</file>