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A7F-D6C1-4517-981C-7CD030AD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FEC-568E-4B56-B561-4868A56F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639-CA87-4BED-A844-9CCE88AE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EC3-C664-4F99-A8B3-7D7AF2B5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B29-12E6-4475-A1C1-3051EB13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123-E259-4078-91AD-6AB6D189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AC8-36B3-49EC-AC07-5FB54FFA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8AF-E7CC-4C3E-B04F-611C460B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4F0-543F-46D4-87AE-541F5472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6CE-B461-438B-8E60-FCC2CE0B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8E9-C728-4763-B813-B755D544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F48-58A4-4094-A113-FB106A79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45B8-0AFA-447E-9CAB-41B7B57A9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7.xls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4.xls" TargetMode="External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8.xls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8.xls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8.xls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way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for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-Square distance between data &amp;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-Squar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P-values (CHID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son’s Parad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rking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 a line to a scatter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ore deta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estimate         us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earlier sd estima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varia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out fi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imilar to           from bef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62520" y="2133720"/>
                <a:ext cx="423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505320" y="2819520"/>
                <a:ext cx="439740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acc>
                                              <m:accPr>
                                                <m:chr m:val="^"/>
                                              </m:accPr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</m:acc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acc>
                                              <m:accPr>
                                                <m:chr m:val="^"/>
                                              </m:accPr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781680" y="4648320"/>
                <a:ext cx="2574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371600" y="5867280"/>
                <a:ext cx="1149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800600" y="5867280"/>
                <a:ext cx="7700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or Probability Distribu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re estimating        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DIST and TIN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degrees of freedom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495680" y="2286000"/>
                <a:ext cx="424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943600" y="2209680"/>
                <a:ext cx="3952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638680" y="3886200"/>
                <a:ext cx="114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ckaged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ata Analysis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application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ext Problem 8.6  (now  10.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ext Problem 8.6  (now  10.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 companies estimate energy used by their customers.  Natural gas consumption depends on temperature.  A study recorded average daily gas consump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00s of cubic feet) for each month.  The explanatory variab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average number of heating degree days for that month. Data for October through Jun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or October through Jun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905120"/>
          <a:ext cx="7390800" cy="4572000"/>
        </p:xfrm>
        <a:graphic>
          <a:graphicData uri="http://schemas.openxmlformats.org/drawingml/2006/table">
            <a:tbl>
              <a:tblPr/>
              <a:tblGrid>
                <a:gridCol w="2463480"/>
                <a:gridCol w="2463840"/>
                <a:gridCol w="24634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 = Deg.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= Gas Cons’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ext Problem 8.6  (now  10.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7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Ne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thing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ne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Ne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langu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ed care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Gloss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2286000"/>
          <a:ext cx="7924680" cy="3652920"/>
        </p:xfrm>
        <a:graphic>
          <a:graphicData uri="http://schemas.openxmlformats.org/drawingml/2006/table">
            <a:tbl>
              <a:tblPr/>
              <a:tblGrid>
                <a:gridCol w="2666880"/>
                <a:gridCol w="5257800"/>
              </a:tblGrid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at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= Prop’n of Sum of Squa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xplained by 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interc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Intercept   </a:t>
                      </a:r>
                      <a:r>
                        <a:rPr b="0" i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X 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Slope   </a:t>
                      </a:r>
                      <a:r>
                        <a:rPr b="0" i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s      &amp;    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248520" y="5334120"/>
                <a:ext cx="2412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010280" y="5257800"/>
                <a:ext cx="2606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Gloss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2057400"/>
          <a:ext cx="8001000" cy="4259160"/>
        </p:xfrm>
        <a:graphic>
          <a:graphicData uri="http://schemas.openxmlformats.org/drawingml/2006/table">
            <a:tbl>
              <a:tblPr/>
              <a:tblGrid>
                <a:gridCol w="2666880"/>
                <a:gridCol w="5334120"/>
              </a:tblGrid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at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Standard Err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Estimates of      &amp;     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(recall from Sampling Dist’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T – St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(Est. – mean) / SE,    i.e. 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on scale of T –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cdc00"/>
                          </a:solidFill>
                          <a:latin typeface="Arial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cdc00"/>
                          </a:solidFill>
                          <a:latin typeface="Arial"/>
                        </a:rPr>
                        <a:t>For 2-sided test of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400800" y="2743200"/>
                <a:ext cx="3603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315200" y="2743200"/>
                <a:ext cx="324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343400" y="5257800"/>
                <a:ext cx="3505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Gloss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2133720"/>
          <a:ext cx="7925040" cy="3992400"/>
        </p:xfrm>
        <a:graphic>
          <a:graphicData uri="http://schemas.openxmlformats.org/drawingml/2006/table">
            <a:tbl>
              <a:tblPr/>
              <a:tblGrid>
                <a:gridCol w="2667240"/>
                <a:gridCol w="5257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at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wer 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pper 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nds of 95% Confid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terval for  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and  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since chose 0.95 for Confidence leve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Predicted    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Points on line at     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i.e.              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010280" y="4648320"/>
                <a:ext cx="347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590920" y="4648320"/>
                <a:ext cx="2840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587920" y="5105520"/>
                <a:ext cx="1243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Gloss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2133720"/>
          <a:ext cx="7925040" cy="3657600"/>
        </p:xfrm>
        <a:graphic>
          <a:graphicData uri="http://schemas.openxmlformats.org/drawingml/2006/table">
            <a:tbl>
              <a:tblPr/>
              <a:tblGrid>
                <a:gridCol w="2667240"/>
                <a:gridCol w="5257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at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Residual for   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Recall:  gave useful information about </a:t>
                      </a:r>
                      <a:r>
                        <a:rPr b="0" i="1" lang="en-US" sz="28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quality of 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tandard Residual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on </a:t>
                      </a:r>
                      <a:r>
                        <a:rPr b="0" i="1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tandardized 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029200" y="4267080"/>
                <a:ext cx="16365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684520" y="2666880"/>
                <a:ext cx="4032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840200" y="2629080"/>
                <a:ext cx="21304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a line to data in a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Class Example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4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about “basic struc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model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“prediction of new valu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useful var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ext Problems 10.8 - 10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w  10.13 – 10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8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8,   (now  10.13 – 10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10.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s made measurements of the Leaning Tower of Pisa over the years 1975 – 1987.  “Lean” is the difference between a points position if the tower were straight, and its actual position, in tenths of a meter, in excess of 2.9 meters.  The data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w  10.13 – 10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10.8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4120" y="1295280"/>
          <a:ext cx="2971800" cy="5211720"/>
        </p:xfrm>
        <a:graphic>
          <a:graphicData uri="http://schemas.openxmlformats.org/drawingml/2006/table">
            <a:tbl>
              <a:tblPr/>
              <a:tblGrid>
                <a:gridCol w="1485720"/>
                <a:gridCol w="1486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8,   (now  10.13 – 10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10.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the data, does the trend in lean over time appear to be lin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quation of the least squares fit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95% confidence interval for the average rate of change of the 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8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.3 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ymology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for something completely differ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body heard of this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“etymolog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respons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 etym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story of words; the study of the history of word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mp.ucop.edu/crlp/resources/glossary.ht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story of a word shown by tracing its development from another languag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animalinfo.org/glosse.h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“etymolog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ymology is derived from the Greek word e/)tymon(etymon) meaning "a sense" and logo/j(logos) meaning "word." Etymology is the study of the original meaning and development of a word tracing its meaning back as far as possibl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two-age.org/glossary.h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response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 and now for some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ow For Something Completely Different is a film spinoff from the television comedy series Monty Python's Flying Circus. The title originated as a catchphrase in the TV show. Many Python fans feel that it excellently describes the nonsensical, non sequitur feel of the program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.wikipedia.org/wiki/And_Now_For_Something_Completely_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Search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ow for something completely diffe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more than 100 result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haps interesting 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wscomp.com/mpfc/mpfc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devel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s and Confidence In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lope &amp; intercept parameters, a &amp;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udy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 Search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 31 and now for something completely differ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PPT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lide 1File Format: Microsoft Powerpoint 97 - View as HTM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 what is missing?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Review Ideas on State Lotteries,. from our study of Expected Val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unc.edu/~marron/ UN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005/Stat31-05-03-31.ppt - Similar 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in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Given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ind the Least Squares Fit Line, and do inference for the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X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ay     ,  what will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Y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114800" y="1523880"/>
                <a:ext cx="3124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257800" y="3809880"/>
                <a:ext cx="39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in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variation in predi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sible guess about    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given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int on the fit line above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495680" y="2362320"/>
                <a:ext cx="23623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029200" y="3124080"/>
                <a:ext cx="33336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447920" y="4648320"/>
                <a:ext cx="3276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029200" y="3962520"/>
                <a:ext cx="395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467480" y="5486400"/>
                <a:ext cx="39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in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variation about this gu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Approach:  present an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 done with Confidence Interv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:    Two Notions of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diction Inter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291440" y="4724280"/>
                <a:ext cx="290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010280" y="5486400"/>
                <a:ext cx="289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in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 Interval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e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391520" y="1600200"/>
                <a:ext cx="290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57400" y="2362320"/>
                <a:ext cx="17524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±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14600" y="3200400"/>
                <a:ext cx="480060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95480" y="5715000"/>
                <a:ext cx="396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INV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in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for      closer to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ever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for        more sprea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for l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581280" y="2895480"/>
                <a:ext cx="3034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715000" y="2971800"/>
                <a:ext cx="2682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191120" y="1295280"/>
                <a:ext cx="388620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495680" y="5029200"/>
                <a:ext cx="2160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733920" y="4191120"/>
                <a:ext cx="333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 flipV="1">
            <a:off x="6019920" y="175248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581280" y="2209320"/>
            <a:ext cx="21337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315200" y="25905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00600" y="2133720"/>
            <a:ext cx="53352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in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 Interval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086600" y="1676520"/>
                <a:ext cx="2905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158920" y="2455920"/>
                <a:ext cx="1548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925640" y="3581280"/>
                <a:ext cx="536904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43200" y="5943600"/>
                <a:ext cx="3886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INV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in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remarks to above 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 “1 + ” accounts for added variation in       compar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016520" y="1295280"/>
                <a:ext cx="423540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629400" y="4267080"/>
                <a:ext cx="447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657600" y="4343400"/>
                <a:ext cx="3668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 flipV="1">
            <a:off x="4419720" y="205740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in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Class Example 28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w  10.13 – 10.15)          Old 10.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s made measurements of the Leaning Tower of Pisa over the years 1975 – 1987.  “Lean” is the difference between a points position if the tower were straight, and its actual position, in tenths of a meter, in excess of 2.9 meters.  The data are listed abo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in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8,   (now  10.13 – 10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10.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the data, Does the trend in lean over time appear to be lin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quation of the least squares fit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95% confidence interval for the average rate of change of the 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8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do statistical inference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:         are random, independent      and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590920" y="3809880"/>
                <a:ext cx="29718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590920" y="4876920"/>
                <a:ext cx="414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286000" y="5562720"/>
                <a:ext cx="18288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in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.20    and add pa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f)  Calculate a 95% Confidence Interval for the mean oxygen uptake of individuals having heart rate 96,  and heart rate 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Issues in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ers via Java 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on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point:     Data gener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osen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re “parame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114800"/>
            <a:ext cx="49532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952880" y="1980720"/>
            <a:ext cx="0" cy="297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886200" y="2361960"/>
            <a:ext cx="4724280" cy="1981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32004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010280" y="19047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16800" y="1828800"/>
            <a:ext cx="406440" cy="2438280"/>
          </a:xfrm>
          <a:custGeom>
            <a:avLst/>
            <a:gdLst/>
            <a:ahLst/>
            <a:rect l="l" t="t" r="r" b="b"/>
            <a:pathLst>
              <a:path w="256" h="1536">
                <a:moveTo>
                  <a:pt x="248" y="0"/>
                </a:moveTo>
                <a:cubicBezTo>
                  <a:pt x="252" y="80"/>
                  <a:pt x="256" y="160"/>
                  <a:pt x="248" y="240"/>
                </a:cubicBezTo>
                <a:cubicBezTo>
                  <a:pt x="240" y="320"/>
                  <a:pt x="232" y="416"/>
                  <a:pt x="200" y="480"/>
                </a:cubicBezTo>
                <a:cubicBezTo>
                  <a:pt x="168" y="544"/>
                  <a:pt x="88" y="568"/>
                  <a:pt x="56" y="624"/>
                </a:cubicBezTo>
                <a:cubicBezTo>
                  <a:pt x="24" y="680"/>
                  <a:pt x="0" y="752"/>
                  <a:pt x="8" y="816"/>
                </a:cubicBezTo>
                <a:cubicBezTo>
                  <a:pt x="16" y="880"/>
                  <a:pt x="72" y="952"/>
                  <a:pt x="104" y="1008"/>
                </a:cubicBezTo>
                <a:cubicBezTo>
                  <a:pt x="136" y="1064"/>
                  <a:pt x="176" y="1112"/>
                  <a:pt x="200" y="1152"/>
                </a:cubicBezTo>
                <a:cubicBezTo>
                  <a:pt x="224" y="1192"/>
                  <a:pt x="240" y="1184"/>
                  <a:pt x="248" y="1248"/>
                </a:cubicBezTo>
                <a:cubicBezTo>
                  <a:pt x="256" y="1312"/>
                  <a:pt x="248" y="1480"/>
                  <a:pt x="248" y="15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429000" y="30481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        and        determine the underlying model (dis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with the Least Squares Estim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ing SLOPE and INTERCEPT in Excel, bas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048120" y="1600200"/>
                <a:ext cx="2840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1447920"/>
                <a:ext cx="2793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657600" y="3581280"/>
                <a:ext cx="271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05520" y="3505320"/>
                <a:ext cx="263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of        and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above assumptions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ing distribu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points are right (unbi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ads are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657600" y="1447920"/>
                <a:ext cx="27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105520" y="1371600"/>
                <a:ext cx="263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181480" y="3200400"/>
                <a:ext cx="2286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181480" y="3962520"/>
                <a:ext cx="22860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105520" y="3657600"/>
            <a:ext cx="1371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105520" y="44956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SD of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(small) for        big (small, res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ccurate est. of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or  x’s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sprea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ore spread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ore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or mo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ore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962520" y="1295280"/>
                <a:ext cx="271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62320" y="1905120"/>
                <a:ext cx="495288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114800" y="3733920"/>
                <a:ext cx="3888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SD of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(small) for        big (small, res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ccur’te est. of inter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fo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ed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ore accurate inter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for mo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at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ore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962520" y="1143000"/>
                <a:ext cx="253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981080" y="1752480"/>
                <a:ext cx="604368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114800" y="3733920"/>
                <a:ext cx="3888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505320" y="4648320"/>
                <a:ext cx="1218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 </cp:lastModifiedBy>
  <dcterms:modified xsi:type="dcterms:W3CDTF">2005-04-21T03:31:30Z</dcterms:modified>
  <cp:revision>1354</cp:revision>
  <dc:subject/>
  <dc:title>Slide 1</dc:title>
</cp:coreProperties>
</file>