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5EF0-1F0A-413A-9C8B-B959BCDEB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CD79-EF53-4A88-B293-F5AB7139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57F0-BB18-49A2-A50E-38FA02CB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3E70-DC88-47A4-A57E-00AB140F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9F47-612B-453D-9696-E3788844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4160-7A53-4869-B019-BFD6DE96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0225-AD18-4581-A35F-BB41D5E1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FFC5-749A-4207-B9C1-36C44E4D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0106-4F68-4BCD-ABB6-FD1E06F5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FE5A-8B24-46B9-842F-76F90E43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31D6-C9A3-4449-93B0-4EFCF0AA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C94F-6DD0-4A25-8E79-48F50A6F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FE8F-3FE2-485F-9E27-5C0C6496E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CokePepsiResults2005.xls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CokePepsiResults2005.xls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CokePepsiResults2005.xls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CokePepsiResults2005.xls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31  Final Exa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Date &amp; Tim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esday, May 10,  9:00-12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Office Hou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rsday, May 5, 9:00 - 1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day, May 6, 9:00 - 1: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day, May 9, 2:00 - 5: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with you, to exa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8.5" x 11") sheet of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nt &amp; Back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Challenge:   Word problems on statistical i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s to keep in m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pi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Way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rtions – Counts (p ba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Gu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Means (mu ba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ma known – NORMDIST &amp; NORM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ma unknown – TDIST &amp; T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Decision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Ty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ce of Sampl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on’t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Just look over ol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 high enough level of lear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ld H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random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imic ordering on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HW 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31,  Section 1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ion in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new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on Interval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new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ers In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have major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with graphics - residual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Linear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with graphics – residual plo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use more sophisticat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transform data (e.g. lo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psi – Coke Tast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nd Analy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CokePepsiResults2005.x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is Te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rtions based   (i.e. think about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Hyp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Sampling Distrib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486400" y="3429000"/>
                <a:ext cx="16002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5486400" y="4038480"/>
                <a:ext cx="16002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p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276720" y="5181480"/>
                <a:ext cx="33526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p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psi – Coke Tast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nd Analy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CokePepsiResults2005.x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:     P{what saw or m.c. |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assumption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compute P-value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                          obs’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523880" y="3429000"/>
                <a:ext cx="64008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3" name="" descr=""/>
          <p:cNvPicPr/>
          <p:nvPr/>
        </p:nvPicPr>
        <p:blipFill>
          <a:blip r:embed="rId2"/>
          <a:srcRect l="20541" t="46955" r="29344" b="20869"/>
          <a:stretch/>
        </p:blipFill>
        <p:spPr>
          <a:xfrm>
            <a:off x="3886200" y="5410080"/>
            <a:ext cx="1560600" cy="1125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00400" y="54100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5410080"/>
            <a:ext cx="19810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7238880" y="5029200"/>
                <a:ext cx="15242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 flipV="1">
            <a:off x="5054760" y="5334120"/>
            <a:ext cx="0" cy="1295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105520" y="541008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psi – Coke Tast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nd Analy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CokePepsiResults2005.x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P-value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                          obs’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NORMDIST(ABS(phat – 0.5),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(2*SQRT(n),TR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20541" t="46955" r="29344" b="20869"/>
          <a:stretch/>
        </p:blipFill>
        <p:spPr>
          <a:xfrm>
            <a:off x="3886200" y="3048120"/>
            <a:ext cx="1560600" cy="1125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00400" y="304812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3048120"/>
            <a:ext cx="1981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7238880" y="2743200"/>
                <a:ext cx="15242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 flipV="1">
            <a:off x="5054760" y="2971800"/>
            <a:ext cx="0" cy="1295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105520" y="312408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psi – Coke Tast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(P-value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CokePepsiResults2005.x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onsensus, Pepsi vs. Coke (0.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onsensus, Sweeter (0.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think know (e-6, very stro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It Right (0.004, very stro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 Coin Toss (0.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t Right, Were Right  (0.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psi – Coke Tast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nteresting history of this t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Attem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psi was prefe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psi was swe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got it wrong (even if thought n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 C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me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psi – Coke Tast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nteresting history of this t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 C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me 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oke was preferred to Old C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oke was swe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got it wrong (even if thought n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r Old Coke slowly morphed into New Cok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ics discuss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 </cp:lastModifiedBy>
  <dcterms:modified xsi:type="dcterms:W3CDTF">2005-04-28T02:43:21Z</dcterms:modified>
  <cp:revision>1399</cp:revision>
  <dc:subject/>
  <dc:title>Slide 1</dc:title>
</cp:coreProperties>
</file>